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AA9-C7B5-43C8-8C3B-B92D61CD1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8FAE-9BCA-4018-9D72-A8A57654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A6E-0328-42D1-A9DD-0EAD6541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EEA-7981-4F32-AB76-A57D2A37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26E5-A119-4AEF-9309-263434BA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7CC3-387E-46C5-B761-99209880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F298-1B63-463D-BA89-A0F23000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028D-9419-477F-A7E5-012BA893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E158-48F0-4697-B779-D4170278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673A-4CF9-4A38-A84C-AC9D0ED7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3266-280F-4AA3-8953-9A1F0401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0AF-2C99-4DD5-BECE-3347F6F6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FF3B-1532-4246-BEDE-AE549C06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E309-FB12-4D32-883D-8B1BAD78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7DE3-D489-4FA2-B790-48E9961D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582F-D1B9-4434-B8AA-813A4B82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E189-8E19-4E92-84DF-657DC56E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78A7-C457-4222-95F5-9BC1BDB2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4212-7829-4229-AE00-D89E88C4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0D28-83E1-4800-A62E-81744E9F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F62-B11F-48AE-9B1C-61EDCDD0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D8A-D01B-4D47-9D32-BFBD0413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3075-320B-45F5-8085-C6FFFF16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DD5-917A-49CB-AE94-3B1E9E05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92E9-C25F-44E3-8B0E-3B66307B47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3116-C192-4993-9964-5C04A52D03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Контроль качества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00240"/>
            <a:ext cx="8121600" cy="54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документации, отражающей вопросы организации контроля качества на разных стадиях проектирования и строительства, включая контроль качества производства отдельных строительно-монтажных работ. Программный модуль состоит из двух раздел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 первом разделе представлены задачи, освещающие общие вопросы управления качеством строительной продукции, организации входного контроля проектно-сметной документации, контроля качества материалов, конструкций и изделий, операционный контроль качества, приемочный контроль, авторский надзор, технический надзор, государственный контроль качества строительства, организация служб технического контроля и строительных лабораторий, геодезический контроль, всего 10 задач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Второй раздел содержит положения, отражающие вопросы контроля качества основных строительно-монтажных работ, включая работы, выполняемые грузоподъемными механизмами и работы подготовительного периода; всего 22 задач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нужным образом отредактировать отобранный материал и  оформить его в виде необходимого документ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актуальных требованиях нормативно-правового регулирования при проектировании, строительстве и реконструкции объектов капитального строительства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26248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485640" y="1271520"/>
            <a:ext cx="817272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216080" y="1668600"/>
            <a:ext cx="6931080" cy="200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409760" y="1222200"/>
            <a:ext cx="6370560" cy="32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4244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документ, отражающей вопросы организации контроля качества строительства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704960" y="1362240"/>
            <a:ext cx="6265800" cy="270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4-13T14:36:36Z</dcterms:modified>
  <cp:revision>242</cp:revision>
  <dc:subject/>
  <dc:title>Слайд 1</dc:title>
</cp:coreProperties>
</file>