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337-01D9-4538-BC88-74567EE2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861-2FFB-4528-A0BD-812340CF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907-9543-4863-B1C9-E5EEA2FD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7A14-390B-4A62-AFF9-4BDA126A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7A35-51CF-4913-994B-7471E5AF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E72D-1CE6-482F-BCE7-B379DEBD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CAAF-7A2E-48B4-9533-C7C93629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D022-750E-4C57-9FDD-ADAFC7E7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8B70-9D5A-4726-B310-C179A06B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F532-1FD7-4869-A255-192B6C3C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C0FE-7ABA-436A-9A68-A4880337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5B4-3BA1-480A-B391-D6AA477B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3AF8-2327-477A-810C-E9FE5D87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6EBE-1B89-40C7-98B7-868BACCE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9DF5-9EB8-4CF2-BFD0-D24D6167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CE5B-53F0-4FA6-94EC-02034CA4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E03E-E594-49EF-8EA2-C6224E64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66A-4468-447C-8F0E-3BF5E372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90B-AB26-45FE-A60E-D29D7842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BF9-B1A6-4385-9912-A68944EB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A8E-6C9C-4787-BA23-ED6D97F4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DE3-8A56-403E-8223-1205295F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3CA-A67A-4E65-8F4B-2FA6ED15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58A-484D-490F-8644-41FBD44F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06D4-4569-4EB9-92E8-AC2EDDAAB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57DB-E239-4405-B697-9DFE298D1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397980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Календарный план ПОС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547640" y="189000"/>
            <a:ext cx="657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cc00"/>
                </a:solidFill>
                <a:latin typeface="Arial"/>
              </a:rPr>
              <a:t>Печать результатов расчет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cc00"/>
                </a:solidFill>
                <a:latin typeface="Arial"/>
              </a:rPr>
              <a:t>продолжительности строительств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684360" y="1197000"/>
            <a:ext cx="8172360" cy="52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092240"/>
            <a:ext cx="812160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составления календарных планов строительства объектов в составе ПОС на ранних (предпроектных) стадиях инвестиционно-строительного цикла. Основой проводимых расчетов служат нормы продолжительности строительства зданий и сооружений, в том числе "Нормы продолжительности строительства и задела в строительстве предприятий, зданий и сооружений" (СНиП 1.04.03-85*), "Рекомендации по определению норм продолжительности строительства зданий и сооружений, строительство которых осуществляется с привлечением средств бюджета города Москвы" (МРР-3.2.81-12), "Нормирование продолжительности строительства зданий и сооружений,  ЦНИИОМТП" (МДС 12-43.2008)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В программном модуле учитываются различные условия возведения объектов в отраслевом, территориальном, конструктивном и других аспектах. При расчете продолжительности строительства объектов используются методы интерполяции и экстраполяции, показатели строительства объектов-аналогов и т.п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олученный календарный план строительства объекта определяет сроки и очередность строительства основных и вспомогательных зданий и сооружений, технологических узлов и этапов работ, пусковых или градостроительных комплексов с распределением капитальных вложений и объемов строительно-монтажных работ по зданиям и сооружениям и периодам строительств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2384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030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39640" y="5648400"/>
            <a:ext cx="835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го подобъекта (вида работ) определяется начало и окончание строительства, продолжительность подготовительного периода на основании выбранного метода расчета:  вручную,  по стоимости СМР по СНиП 1.04.03-85*,  по объекту-аналогу по СНиП 1.04.03-85*,  по объекту-аналогу по МРР-3.2.81-12, по объекту-аналогу по МДС 12-43.2008. Также при необходимости могут быть определены показатели задела (готовности) по месяцам или квартала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116000" y="946080"/>
            <a:ext cx="7201080" cy="46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44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ный метод определения продолжительности строительства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4360" y="580536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определения продолжительности строительства объекта, не имеющего прямых норм, используется расчетный метод, основанный на функциональной зависимости ее от стоимости строительно-монтажных работ в ценах 1984 г. При использовании расчетного метода коэффициенты к нормам не применяю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908000" y="1052640"/>
            <a:ext cx="58327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442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Выбор отрасли (подотрасли, вида производства и объектов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55640" y="3959280"/>
            <a:ext cx="8121600" cy="26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основных отраслей зависимость продолжительности строительства объектов  Т</a:t>
            </a: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от стоимости строительно-монтажных работ  С выражается в виде функций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де  С - объем строительно-монтажных работ, млн. руб., в ценах, действующих с 1984 г.,  А</a:t>
            </a: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, А</a:t>
            </a:r>
            <a:r>
              <a:rPr b="1" lang="ru-RU" sz="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 - параметры уравнения, определенные по данным статисти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етод применим для интервала объемов СМР по отраслям, подотраслям, видам производств и группам объектов, приведенных в справочни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042920" y="1125360"/>
            <a:ext cx="7456680" cy="26863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3995640" y="4508640"/>
            <a:ext cx="1457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11592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продолжительности строительства по объекту-аналогу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76440" y="6012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расчете продолжительности строительства объектов используются методы интерполяции и экстраполяции на основании нормативной продолжительности строительства объектов-аналогов в соответствии  со СНиП 1.04.03-85*,  МРР-3.2.81-12 или МДС 12-43.200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2050920" y="1033560"/>
            <a:ext cx="554544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63840" y="115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объекта-аналог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76440" y="601200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ыбор объекта-аналога производится из соответствующей нормативной базы. Для объектов из базы СНиП 1.04.03-85* также определяются показатели готовности объекта по капитальным вложениям (полной сметной стоимости) и стоимости строительно-монтажных рабо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826920" y="981000"/>
            <a:ext cx="7417080" cy="49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547640" y="189000"/>
            <a:ext cx="6577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Учет природно-климатических факторов и технологии производств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троительно-монтажных рабо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76440" y="565452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и расчете продолжительности строительства объектов необходимо учитывать воздействие природно-климатических факторов  на  условия  труда, технологию производства строительно-монтажных работ и т.п. Данные факторы могут быть учтены при расчете благодаря использованию понижающих или повышающих коэффициен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2050920" y="1749600"/>
            <a:ext cx="611532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547640" y="189000"/>
            <a:ext cx="657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Формирование выходного докумен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11280" y="3579840"/>
            <a:ext cx="8121600" cy="29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х необходимых данных и проведения нужных расчетов пользователь может сформировать и открыть в текстовом редакторе фрагмент пояснительной записки ПОС по расчету продолжительности строительства и задела (при необходимости). При создании отчета пользователь может задать следующие дополнительные требования к отображению в нем показателей задел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период (нет, по месяцам, по кварталам, по годам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масштаб цен (тыс.руб., млн.руб.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и этом в документ будет выведена следующая информац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исходные данны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рассчитанные знач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формулы, использованные для расче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40" indent="353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- названия нормативных документов – оснований проведения расче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2987640" y="1197000"/>
            <a:ext cx="3051360" cy="19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6T07:38:12Z</dcterms:created>
  <dc:creator/>
  <dc:description/>
  <dc:language>en-US</dc:language>
  <cp:lastModifiedBy>-</cp:lastModifiedBy>
  <dcterms:modified xsi:type="dcterms:W3CDTF">2017-01-10T13:25:07Z</dcterms:modified>
  <cp:revision>255</cp:revision>
  <dc:subject/>
  <dc:title>Слайд 1</dc:title>
</cp:coreProperties>
</file>