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9EC4-3B84-4802-819C-B226674D6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2D22-9C8E-4B7D-8B12-7BC7B0C6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C5F8-306E-44E6-91D8-44A63AB49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A20A-4799-4D45-A085-ED790634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BBD8-DAA7-4567-ABD3-988495BB2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FB01-C702-4C20-AD53-D1FEC46F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6293-4959-4852-944A-49E4356B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4AAD-335C-4F4D-9511-7DEE79B9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5C79-F6B0-48AE-92B8-3362EEFE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9C46-4F50-4919-9DA3-2296B8F3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B1FE-C9AE-4195-B47D-752CF8F0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B3A4-8861-4FF3-BFC9-3EC22DD0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F503-283B-44D7-A357-702DE51E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4E9B-2822-46B8-BD39-DE5B8696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BD27-B7ED-4562-9E42-46101645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BCBC-D778-4E69-9E5C-82EBB9D17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E04F-CD57-419E-935E-5CA5FF596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A8A3-0A2F-4080-A973-0D2BFDA9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E2C8-688F-4057-B29C-9D95A317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3F16-3F35-4922-A7AC-AA53F194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2626-A6DE-416B-97EF-FB8B364B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1BED-3338-4A37-A492-222E0045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0E6C-6A54-4AD7-A8BE-A237ECA8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6810-90EF-4C84-A91E-380878C8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920B-AF64-476B-BFB6-DE3F0B59CE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D220-2A9D-44A7-9199-9003C97F24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imes New Roman"/>
              </a:rPr>
              <a:t>«Схемы строповки грузов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29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26532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1440" indent="26532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формирования набора используемых грузов;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1440" indent="26532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одбора в зависимости от типа и массы груза соответствующих схем строповки и грузозахватных приспособлений;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1440" indent="26532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остроения на чертеже: набора схем строповки, таблицы грузов, таблицы грузозахватных приспособлений, текста примечаний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1440" indent="26532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В программном модуле используется база данных грузов, в которой для каждого типа и марки груза содержится схема строповки и наборы грузозахватных приспособлений при разгрузке и монтаже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43040" y="583236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еобходимо сформировать набор грузов для вставки соответствующих схем и таблиц в чертеж. Имеется возможность сохранить набор грузов для его дальнейшего использования, в том числе и в программном модуле "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бор кранов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954080" y="890640"/>
            <a:ext cx="577224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cc00"/>
                </a:solidFill>
                <a:latin typeface="Times New Roman"/>
              </a:rPr>
              <a:t>Изображение схемы строповки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43040" y="5369040"/>
            <a:ext cx="758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Схемы строповки на чертеже группируются в блок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793800" y="1501920"/>
            <a:ext cx="7785000" cy="374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Таблицы грузов и грузозахватных приспособлений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43040" y="540072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едусмотрена возможность вставки в чертеж таблиц грузов и грузозахватных приспособлен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620640" y="3054240"/>
            <a:ext cx="8256600" cy="22129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2309760" y="1347840"/>
            <a:ext cx="4848120" cy="132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Текст примечаний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2340000" y="973080"/>
            <a:ext cx="4948200" cy="5126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5-01-26T12:51:30Z</dcterms:modified>
  <cp:revision>261</cp:revision>
  <dc:subject/>
  <dc:title>Слайд 1</dc:title>
</cp:coreProperties>
</file>