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C0B9-D061-4522-85F3-82750517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ECF5-EA35-4AB0-A176-5EF34A79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E2C7-8192-48FE-889D-D4A3CF1B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4A9A-0E5B-4C1C-9798-DA7BF6D5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8D99-A96B-4DE8-A712-178DED48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0975-CE52-4EA3-A22F-603A7E4B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0339-ACF4-4CA7-B3B6-37EA053E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73EB-3A5C-4BF2-8C4B-CFE94C87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0185-B0AA-4C2F-97B6-40E9494A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53D8-1D5B-46E2-A0D3-9BBF3A29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3534-072C-48CC-BE60-DB1BD03C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5DA4-0F1D-4EAB-AEB8-B7856D41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902D-0E23-453F-81EE-A5ED1948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1C18-6BF4-47DE-8758-FFE93A95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5E81-1EB9-4511-93FD-7D0C46B2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2E99-42F1-47DF-BFAF-62677E9E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8818-6F11-4681-AE97-09F748FD9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2C10-C316-4390-B9E2-704E03E7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43BB-84C4-4B0F-9142-D783E648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949B-8045-43FE-8A74-B030E46A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AB0C-ED72-478E-8E86-39BB58AF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AAE3-C125-4BC2-8D96-92D25B9B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6725-5A68-4442-83F5-8721E39D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E118-99E3-437F-BDDD-F632D610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F71D-41F6-4FF4-8EBD-4E38560E24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4F05-9F2D-459F-90AF-F645ABBDA2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ПОР по сносу (демонтажу)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073160"/>
            <a:ext cx="812160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автоматизированного формирования проекта организации работ (ПОР) по сносу или демонтажу объектов капитального строительств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Разработка проекта по демонтажу или сносу осуществляется с целью безопасного и в заданные сроки производства работ по сносу или демонтажу зданий, охраны окружающей среды и утилизации отходов при организации сноса зданий и сооружени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Структура приведенных в программном модуле задач соответствует требованиям Постановления Правительства РФ от 16.02.2008 № 87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Тексты, приведенные в программном модуле, содержат положения, указания и описания мероприятий, необходимых для производства работ по демонтажу (сносу) зданий и сооружени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Модуль предоставляет пользователю возможность отобрать, скомпоновать, нужным образом отредактировать отобранный материал и  оформить его в виде необходимого документа. Модуль предназначен для эксплуатации в проектных и строительно-монтажных организациях, разрабатывающих проекты организации работ, а также для организаций, выполняющих работы по демонтажу (сносу) здания и сооружения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редоставляемые материалы основаны на актуальных требованиях нормативно-правового регулирования при проектировании, строительстве, реконструкции и сносе объектов капитального строительства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26248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тметить требуемые типовые разделы и включить их в разрабатываемый выходной документ.  В иерархическом списке разделов выходного документа имеется возможность создания новых разделов и правки существующи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932040" y="1168560"/>
            <a:ext cx="7343640" cy="39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оррекция раздела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9040" y="39798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авки раздела выходного документа нужно задать его новое наименование и, при необходимости, изменить вышестоящий разде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901800" y="1641600"/>
            <a:ext cx="7489800" cy="216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охранение выходного документ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15960" y="562284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работанный выходной документ можно сохранить для дальнейшей работы, предварительно задав его наимен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839880" y="1327320"/>
            <a:ext cx="7539120" cy="38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16040" y="442440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й требуемой информации можно сформировать и открыть в текстовом редакторе документацию, отражающую вопросы техники безопасности и охраны труда. С помощью соответствующих флажков в окне настроек печати выходного документа можно указать дополнительные требования к формированию от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544760" y="1379520"/>
            <a:ext cx="6251400" cy="2692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7-10-13T10:12:39Z</dcterms:modified>
  <cp:revision>254</cp:revision>
  <dc:subject/>
  <dc:title>Слайд 1</dc:title>
</cp:coreProperties>
</file>