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097-F528-4628-A41D-037054E9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7CD8-B160-4D8E-85C8-6698AAB8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66E-B39B-4825-AA13-9344AAC2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62F-AE7F-4EF5-BFDF-3142A5EB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1FF9-72D1-4FC6-9FCC-846F4F34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2F5A-79F2-48AB-B817-3EC5C08D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C47-1A4A-4EC5-BCE4-F6397D93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FB96-DDAD-410A-AC1F-FBB3F934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AEB-DD1B-47E9-AE81-7D97361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FA17-FF84-44DD-852D-EAD2BE37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2EB-5B30-4256-BD94-E0945A4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B17-A64D-4581-A8A5-438EC2B6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1A5B-6822-454A-A641-1DDAAA0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539D-DED1-4273-A6F1-8E1B268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A012-28AD-4EEC-9145-FD04449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62A3-9BA9-4912-ABBB-83E3C5F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0D3E-679C-4ACB-B0DB-91373157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535-9396-424C-8D9E-5B2D5D2A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CDE-B997-4B62-BF82-DBC7062A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CC4-674A-4DAA-A294-FD0FCEEA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6B0-73EE-4183-B4AA-1BBF010C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AF4-80F9-4AE4-A27D-974B8313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A4D-2E2A-4ADC-8452-0CC3980C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242-3778-4A7A-93F9-158F2125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2E1-13BA-456F-8B60-2173224640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AD6-6B9B-44C8-9DC9-236C655F83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ыбор кранов-трубоукладчиков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выбора крана-трубоукладчика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ческих изображений выбранного крана-трубоукладчика в видах сбоку, спереди и в плане</a:t>
            </a: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графика грузоподъемности выбранного крана-трубоукладчик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9151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Краны-трубоукладчики выбираются из списка техники. На чертеже можно построить изображения выбранного трубоукладчика в различных проекциях, а также график грузоподъем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311560" y="952560"/>
            <a:ext cx="4613040" cy="48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1600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я крана-трубоукладчика на чертеже в различных проекциях и графика грузоподъем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135160" y="1603440"/>
            <a:ext cx="5419800" cy="485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3-06-17T13:18:25Z</dcterms:modified>
  <cp:revision>239</cp:revision>
  <dc:subject/>
  <dc:title>Слайд 1</dc:title>
</cp:coreProperties>
</file>