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CDF-29FA-4C49-8688-2C104A7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30D-0E41-4255-AF93-1B41F0C2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1E0-74EB-4367-AD04-344EF437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8EF-F834-48E3-B0A4-A1CDA6B9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464B-2F95-4065-83B7-8F03E714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27D5-3C63-46C6-B322-5BF4C23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3C32-C269-4261-B144-92A5BAB8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5CDC-BAA4-45DE-A508-26B95513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8EC-D730-4A76-828A-85D2B945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3CE4-99C9-455F-AF20-C0244921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810A-A6BC-4B92-977C-B90C3754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48F8-18C3-4CB2-9C78-158A55BB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E12C-CE3C-4771-8E40-81F8929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379D-6FBA-4ABD-AC29-4409409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79FF-4FDF-446F-8024-0DBA2BC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2B68-0001-4029-A423-B810DE66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5BE3-9CEC-4574-8085-E4B6C139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FE2-1025-4963-AC49-895A467B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BA0-52DB-4A4F-B0A3-5514650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3F15-F0DE-46F4-A54B-E1739F3E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7C6-00C1-4DA5-B848-622D264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5FC-B66B-43CB-BE15-DC0D3B6E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B55-86AE-4447-8A18-3BB24F08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4F0-97F0-4F83-9F12-B7E3E29B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6F45-0873-4128-9950-4E706D47B8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AAFB-5E32-43FF-9583-EAF7A8ED1C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строение сетки осе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разбивочной сетки ос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66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71480" y="39322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на чертеже сетки осей необходимо указать количество горизонтальных и вертикальных осей, а также расстояние между ними. В случае необходимости сетку осей можно продолжить с другим шаго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43160" y="1152360"/>
            <a:ext cx="6661080" cy="26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етки ос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623960" y="1009800"/>
            <a:ext cx="6394680" cy="50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9:38Z</dcterms:modified>
  <cp:revision>300</cp:revision>
  <dc:subject/>
  <dc:title>Слайд 1</dc:title>
</cp:coreProperties>
</file>