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CD17-F261-4FBC-A430-A6FD3BA4B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555B-20C3-4E8E-9BAE-6F4C2DD55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382A-FFD6-4FD3-B865-3AD555D7D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B88E-A383-484E-AB65-A113A3E14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04D9A-4DE6-48A1-9CA8-BDF08F44F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7E7B3-EEF9-425C-9F87-0C185C836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CDC5C-69B1-4F63-A70B-33D46DD1C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B5092-338B-45AD-9982-652C6A7C6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D765A-C1E1-474C-8BF1-F1B14C937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C45DB-7BA7-475C-AA9E-32AEBA9C7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9FA03-7D30-439F-9752-60C90C19D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E230-077D-4126-B058-7EEC52902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C89AF-F121-4240-86FD-E0AD30BDE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D055F-0502-4820-8F6F-3D646C73C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56D55-5065-43AD-96B6-BEBDDF7BC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06CA1-4CA5-4285-B301-50BFDBC02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BD7EA-9B15-42E6-B887-BDA84F493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5648-64DF-4730-AA54-BC626A552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A9DA-9DE9-468A-A81B-4EF0C62BB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CE3E-0E2C-448E-80E5-C341B8AC8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EB53-2959-4F8E-A4D4-668691F8F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8055-9D1C-4A7D-A95C-50C74EA76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06DC-5767-4F64-A024-11C79C6B1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5473-8FA3-4DA7-B863-94F1ED8DF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59B17-D9B3-4534-B427-9B8E471F81B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F224A-2A11-4776-8FE1-7F9D5786524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61880" y="369720"/>
            <a:ext cx="1165320" cy="641520"/>
          </a:xfrm>
          <a:prstGeom prst="flowChartDecision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000" y="243000"/>
            <a:ext cx="855504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аучно-технический центр «Гектор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граммный комплекс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«Гектор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ектировщик-строитель»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Версия ЭКСПЕРТ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Инструмент для разработки проектов организации строительства (ПОС),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проектов производства работ (ППР), технологических карт (ТК)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Свидетельство РФ о регистрации в Реестре программ для ЭВМ № 200761352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85760" y="25884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8115480" y="26496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730080" y="4043520"/>
            <a:ext cx="8158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Times New Roman"/>
              </a:rPr>
              <a:t>Программный модул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Times New Roman"/>
              </a:rPr>
              <a:t>«Разработка траншей»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18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19" name="" descr="">
              <a:hlinkClick r:id="" action="ppaction://hlinkshowjump?jump=endshow"/>
            </p:cNvPr>
            <p:cNvPicPr/>
            <p:nvPr/>
          </p:nvPicPr>
          <p:blipFill>
            <a:blip r:embed="rId3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0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1563840" y="21600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Частичное укрепление траншеи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30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0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055520" y="5938920"/>
            <a:ext cx="7589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Доступно использование разных способов крепления стен траншеи (в т.ч. без укрепления) на различных ее участках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4"/>
          <a:stretch/>
        </p:blipFill>
        <p:spPr>
          <a:xfrm>
            <a:off x="1360440" y="1179360"/>
            <a:ext cx="6827760" cy="442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1563840" y="21600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Автоматический подбор консольных креплений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31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1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/>
          <p:nvPr/>
        </p:nvSpPr>
        <p:spPr>
          <a:xfrm>
            <a:off x="1154160" y="5418000"/>
            <a:ext cx="7589880" cy="12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Для траншей с глубиной до 5,5 метров (кроме слабых грунтов и водонасыщенных песков) существует возможность автоматического подбора консольных креплений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Подбор осуществляется по расчетным таблицам "Альбома технологических карт на разработку траншей в креплениях для подземных коммуникаций. Часть 3. Расчетные таблицы для подбора элементов консольных креплений" (Трест Мосоргинжстрой)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4"/>
          <a:stretch/>
        </p:blipFill>
        <p:spPr>
          <a:xfrm>
            <a:off x="1555920" y="1393920"/>
            <a:ext cx="6686280" cy="37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1563840" y="21600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Выполнение раскладки труб и расчет обратной засыпки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32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2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/>
          <p:nvPr/>
        </p:nvSpPr>
        <p:spPr>
          <a:xfrm>
            <a:off x="1057320" y="5959440"/>
            <a:ext cx="7589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076400" y="5931000"/>
            <a:ext cx="7589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Имеется возможность выполнить раскладку труб в траншее и рассчитать объем обратной засыпки. Определение минимальной ширины траншеи и размеров приямков производится по таблицам 6.1 и 6.2 СП 45.13330.2012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4"/>
          <a:stretch/>
        </p:blipFill>
        <p:spPr>
          <a:xfrm>
            <a:off x="1590840" y="1165320"/>
            <a:ext cx="6478560" cy="46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1563840" y="21600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Формирование текстовых документов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334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35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6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1057320" y="5959440"/>
            <a:ext cx="7589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047600" y="6222960"/>
            <a:ext cx="7589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Имеется возможность сформировать различные отчетные документы: раскладка труб, определение угла откоса, подбор креплений и т.д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4"/>
          <a:stretch/>
        </p:blipFill>
        <p:spPr>
          <a:xfrm>
            <a:off x="2895480" y="822240"/>
            <a:ext cx="3990960" cy="344988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5"/>
          <a:stretch/>
        </p:blipFill>
        <p:spPr>
          <a:xfrm>
            <a:off x="2892600" y="4419720"/>
            <a:ext cx="3993840" cy="174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1563840" y="21600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Изображение траншеи на чертеже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346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47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8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/>
          <p:nvPr/>
        </p:nvSpPr>
        <p:spPr>
          <a:xfrm>
            <a:off x="1057320" y="5959440"/>
            <a:ext cx="7589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4"/>
          <a:stretch/>
        </p:blipFill>
        <p:spPr>
          <a:xfrm>
            <a:off x="682560" y="1246320"/>
            <a:ext cx="8134560" cy="496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649440" y="1530360"/>
            <a:ext cx="8121600" cy="45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712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Программный модуль предназначен для определения объемов земляных работ и построения на чертежах траншей  с различными профилями (с естественными откосами, без откосов, с комбинированным профилем) с учетом заданного рельефа местности, максимально возможной крутизны откосов и выбранных способов крепления стен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240" indent="35712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Обеспечивается возможность построения траншей в плане и разрезах, выделения различных видов грунтов с формированием геологических разрезов (колонок грунтов), формирования ведомости объемов работ и обоснования выбора способа крепления стен, размещения колодцев, раскладки труб в траншеи и расчета объема обратной засыпки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240" indent="35712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Имеется возможность подобрать землеройную технику для проведения земляных работ для устройства выбранной траншеи с помощью программного модуля «Подбор землеройной техники»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511280" y="174600"/>
            <a:ext cx="6577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Краткое описание функций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25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26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7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563840" y="11448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Главное окно 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3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949320" y="5958000"/>
            <a:ext cx="7589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Обеспечивается определение объемов земляных работ и построение на чертеже траншей  с различными профилями, способами крепления стен и т.д. Возможно построение изображений траншей в плане и разрезах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2043000" y="642960"/>
            <a:ext cx="5496120" cy="529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563840" y="26676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Добавление траншеи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4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955800" y="5008680"/>
            <a:ext cx="7589880" cy="19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Можно указать один или несколько участков, образующих траншею. Участки могут быть разной глубины. При необходимости указывается уклон участк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Геологический разрез задает структуру грунтов для всей траншеи. Имеется возможность сформировать рельеф местности с указанием толщин слоев грунтов в каждой точке рельеф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В зависимости от профиля траншеи доступны разные виды укрепления стенок, в том числе разные способы для участков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1428840" y="838080"/>
            <a:ext cx="6708600" cy="416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563840" y="21600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Формирование геологического разрез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5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5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1055520" y="6053040"/>
            <a:ext cx="7589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При построении траншей обязательно определяется базовая структура грунтов, включающая их наименования и толщины слоев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4"/>
          <a:stretch/>
        </p:blipFill>
        <p:spPr>
          <a:xfrm>
            <a:off x="1752480" y="987480"/>
            <a:ext cx="5953320" cy="475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563840" y="21600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Формирование рельеф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6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6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1055520" y="6053040"/>
            <a:ext cx="7589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Рельеф можно задать вручную или применить автоматическую расстановку точек рельефа с заданными параметрами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4"/>
          <a:stretch/>
        </p:blipFill>
        <p:spPr>
          <a:xfrm>
            <a:off x="2176560" y="878040"/>
            <a:ext cx="5271840" cy="504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1563840" y="21600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Формирование геологического разрез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на рельефе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7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7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1055520" y="6180120"/>
            <a:ext cx="7589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При необходимости пользователь может уточнить структуру грунтов в разных точках траншеи на рельефе. Можно изменить толщину слоев для каждого узла сетки рельеф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4"/>
          <a:stretch/>
        </p:blipFill>
        <p:spPr>
          <a:xfrm>
            <a:off x="1752480" y="1209600"/>
            <a:ext cx="6172200" cy="489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1563840" y="21600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Размещение колодцев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8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8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1055520" y="6053040"/>
            <a:ext cx="7589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Можно установить размещение колодцев автоматически или указать на чертеже вручную. Для колодцев задаются их форма (круглый или квадратный), размеры и глубин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4"/>
          <a:stretch/>
        </p:blipFill>
        <p:spPr>
          <a:xfrm>
            <a:off x="2071800" y="773280"/>
            <a:ext cx="5527440" cy="523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1563840" y="21600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Выбор способа укрепления стен траншеи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9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9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1055520" y="6027840"/>
            <a:ext cx="7589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Для участков траншеи можно установить независимо различные способы крепления стен, при этом отображаются только способы крепления, подходящие по грунтовым условиям и глубине траншеи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4"/>
          <a:stretch/>
        </p:blipFill>
        <p:spPr>
          <a:xfrm>
            <a:off x="1679400" y="787320"/>
            <a:ext cx="6129360" cy="5200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8T10:55:39Z</dcterms:created>
  <dc:creator/>
  <dc:description/>
  <dc:language>en-US</dc:language>
  <cp:lastModifiedBy>-</cp:lastModifiedBy>
  <dcterms:modified xsi:type="dcterms:W3CDTF">2017-01-10T13:03:14Z</dcterms:modified>
  <cp:revision>338</cp:revision>
  <dc:subject/>
  <dc:title>Слайд 1</dc:title>
</cp:coreProperties>
</file>