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C442-A550-43E7-A414-2914E5A1D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6D65-1F90-4A9F-A847-3786408E4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EA31-D462-4FAB-8B7D-72FF7D1BF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C58B-8555-426A-8115-43F2AD276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FD769-4130-4BAD-9A46-077E8E8F1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E6A94-9A2B-413A-9B3C-6980B74FB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2EEF6-2CDA-4A1D-9B62-9FAE750C9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75564-D88B-4AFC-B841-AC0E8FA5F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8CE6E-7747-4239-B9E1-B7FC4B988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C695B-A085-4969-8A1D-8756A65FD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43E18-A5AE-4F11-9C88-45BC56939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4D8E-D81B-4F8A-B5D2-019583028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3F872-1E92-4104-AD33-76E8061EF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A4183-9137-437B-97AD-520D13BF9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1CADB-6151-472A-828C-5A5A8EC17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B3CD1-2F87-45DA-8890-3E9A55EBC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0ED31-9865-4CF3-86F2-6384EA9BF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6BFE-1A6C-4905-93DF-82B721B17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DCE7-76BF-486E-81EC-740CC1D05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E907-0DDF-4594-9932-7889AB6C5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BF72-28CE-443F-BB6B-460C2C4C9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2286-33B5-4843-87E9-F92B55EF1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7DA0-AC3A-4A07-B675-046C2527B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49B9-B1C8-48F2-840C-BD7D8A9A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9DC59-297B-4665-8F1A-A0AFCC75719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A91BF-734D-4642-9B00-D888BCE0135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68720"/>
            <a:ext cx="770760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Мониторинг зданий вблизи стройплощадки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073160"/>
            <a:ext cx="8121600" cy="56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 автоматизированного формирования фрагмента пояснительной записки ПОС, содержащего перечень мероприятий по организации мониторинга за состоянием зданий и сооружений, расположенных в непосредственной близости от строящегося объекта, земляные, строительные, монтажные и иные работы на котором могут повлиять на техническое состояние и надежность таких зданий и сооружени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Проводимый мониторинг призван обеспечить постоянный контроль наблюдений за деформациями подземного пространства; наблюдений за деформациями окружающих зданий и сооружений; геодезических наблюдений за тоннельными конструкциями (при необходимости); наблюдений за деформациями самого строящегося сооружения; наблюдений за состоянием окружающей среды; наблюдений за гидрогеологическим режимо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Выходные документы разрабатываются на основе поставляемых типовых разделов. Предоставляемые материалы основаны на современных требованиях к организации и проведению мониторинга, обеспечивающего контроль за всеми факторами, влияющими на техническое состояние и надежность зданий и сооружений, расположенных вблизи возводимого объект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Имеется возможность создания новых и правки существующих разделов в выходных документах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35568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76440" y="5630760"/>
            <a:ext cx="812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Необходимо отметить требуемые типовые разделы и включить их в разрабатываемый выходной документ.  В иерархическом списке разделов выходного документа имеется возможность создания новых разделов и правки существующих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77960" y="1538280"/>
            <a:ext cx="7880400" cy="376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35568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оррекция раздела выходного документ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689040" y="397980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правки раздела выходного документа нужно задать его новое наименование и, при необходимости, изменить вышестоящий раздел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839880" y="1343160"/>
            <a:ext cx="7805520" cy="225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Сохранение выходного документа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676440" y="480528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Разработанный выходной документ можно сохранить для дальнейшей работы, предварительно задав его наименовани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1380960" y="888840"/>
            <a:ext cx="6907320" cy="356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563840" y="39384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выходного документ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584280" y="4262400"/>
            <a:ext cx="81216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После завершения ввода всех необходимых данных пользователь может сформировать и открыть в текстовом редакторе фрагмент пояснительной записки ПОС, учитывающий мероприятия по организации мониторинга за состоянием зданий и сооружений, расположенных в непосредственной близости от строящегося объекта. С помощью соответствующих флажков в окне настроек печати выходного документа можно указать дополнительные требования к формированию отчет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1281240" y="1131840"/>
            <a:ext cx="6840360" cy="2946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6-04-11T12:42:05Z</dcterms:modified>
  <cp:revision>280</cp:revision>
  <dc:subject/>
  <dc:title>Слайд 1</dc:title>
</cp:coreProperties>
</file>