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3CC4-06C3-4FF1-B891-1FBF59E2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74A-8166-4A2F-8F0A-3F8E65BD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E90-9141-44FD-A1F9-D1DF02E3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98F-FEB6-4CB2-AA86-3688CCBF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B32B-6BC6-4EDD-BF05-7D3D255B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E5D3-C856-483D-8380-31564E50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2CB4-D99A-47C1-8D63-0831FCCD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75A8-A34F-4EE8-8D61-5657C646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FC6F-363C-4A75-BF7A-C402B110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CDBA-F6FF-4734-BC11-B053F30D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17D5-6EA4-4850-BF9D-584E2E6F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429-FA21-4D63-902B-5EF572C6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D49F-3906-4F0C-A7A6-A6FC9D7B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B25A-12A8-4EEE-882D-4CDE33F2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9770-34EF-4043-AE3E-EA795F98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3420-2602-4E73-8545-B25037A4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F801-49AD-4A59-848D-2303AF5C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EA2-87D9-4344-97DB-9A2447C2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0F3-C2BD-4F98-B5C1-29DD9314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A9E-2E2C-407A-8672-80606393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A71-ED67-43E3-80AC-9A01ACBB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975-8A4C-4A07-9579-547B585A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355-945F-4878-8044-9EE12361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5AA-DA83-4765-8467-6F56F872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4358-6795-4909-8A7A-739EAF631B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85DD-EF32-4626-BF30-C289BC14B7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дбор консольных креплений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дбора консольных креплений для траншей из двутавровых балок и стальных труб с учетом требуемой глубины траншеи и характеристик грунт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115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52400" y="559584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проведения подбора необходимо указать глубину траншеи и физико-механические характеристики  грунта. Подбор осуществляется по расчетным таблицам "Альбома технологических карт на разработку траншей в креплениях для подземных коммуникаций. Часть 3. Расчетные таблицы для подбора элементов консольных креплений" (Трест Мосоргинжстрой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455840" y="750960"/>
            <a:ext cx="639900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подбора консольных креплен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1338120" y="1530360"/>
            <a:ext cx="6873840" cy="358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26:51Z</dcterms:modified>
  <cp:revision>301</cp:revision>
  <dc:subject/>
  <dc:title>Слайд 1</dc:title>
</cp:coreProperties>
</file>