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C529-9774-4141-BB89-448B06F4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7E5-12C8-42A1-AF4E-F483412A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F80-4435-45F7-87C9-B9C2EEC9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67C-4B6D-4989-9442-E34FA079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BBE4-9B43-4B4E-995A-FE4F3DD3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8680-3DFA-4BDA-9A7B-048EFB03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03E0-B5EC-428B-A6A8-4559DD1F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5FF8-D496-4A21-A66B-770DC3F2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3C3F-A4AF-43CA-845F-8BED83DD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5603-8D5E-4D61-ADE2-FDBE7F65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99CA-18D1-4155-8F3D-125AB2D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703-AFEC-4712-AFDD-834B58A5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0B0B-02B9-4E76-BF3C-75313CD1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03BA-6667-4FA6-B3EC-0E16BFA6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594D-3427-4372-BF63-F83ACAAB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92D7-EAF1-4F4B-A8B9-2CF76ACD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2AE8-C35F-461D-9C0F-241486AD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D4F-F7AC-4F12-BE39-E143C26B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922-588C-4139-9079-D75AF764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6DA-91CA-4B35-87F8-B4AD2342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3E1-ADCF-4A65-AE99-EA92695C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909-F25A-4856-9114-2E6091A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B71-E634-46B6-9D73-1A455869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BF8-418A-49FC-BCA4-91AFF07A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7A45-4B6A-4540-969D-6A07549E2E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6E6C-CAC8-471E-B619-7F0CD7C6B5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ые дороги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строительного генерального плана графических изображений временных дорог выбранного типа и заданных параметр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строения на чертеже площадок (разгрузочных, разворотных, разъездов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схемы устройства выбранного типа дорог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расчета количества  материалов, необходимых для устройства дороги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ставки в чертеж таблицы расхода материалов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лучения текстового выходного документа с таблицей расхода материалов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43040" y="54133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каждой дороги автоматически рассчитывается количество материалов для устройства дороги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ожно вставить в чертеж схему устройства и таблицу расхода материалов, настроить вид в план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390680" y="968400"/>
            <a:ext cx="627840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Добавление дор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43040" y="5578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ользователь может задать следующие параметры дороги: ширина, радиусы поворота, уширение в кривых, ширина обочины. Кроме того, можно управлять параметрами отображения пересекающихся дорог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919080" y="1457280"/>
            <a:ext cx="740592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араметры отображения пересекающихся дорог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3040" y="557856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ересечений дорог можно задать разные настройки (обочины, штриховку и т.п.). Кроме того, необходимо выбрать главную дорогу для конкретного пересечения. Площадь пересечения входит в площадь главной дор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247840" y="1209600"/>
            <a:ext cx="508644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менение параметров отображения дорог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43040" y="55785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едусмотрена возможность настройки отображения разных элементов дороги (трасса, штриховка, обочина и т.д.) в плане на чертеж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757520" y="1471680"/>
            <a:ext cx="5628960" cy="39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временной дороги 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43040" y="511488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а изображениях временных дорог на чертеже автоматически строятся радиусы закругления и уширения в кривых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889520" y="1652760"/>
            <a:ext cx="3584520" cy="3162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23880" y="1633680"/>
            <a:ext cx="3692520" cy="3189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303560" y="279072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ходный конту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75360" y="262908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ображение дороги 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ощадкой ушир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21000" y="2754360"/>
            <a:ext cx="803520" cy="396720"/>
          </a:xfrm>
          <a:prstGeom prst="rightArrow">
            <a:avLst>
              <a:gd name="adj1" fmla="val 50000"/>
              <a:gd name="adj2" fmla="val 50635"/>
            </a:avLst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Изображение схемы устройства дорог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чертеж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43040" y="526716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каждого типа дороги предусмотрена возможность построения на чертеже схемы устройства дорог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013120" y="1360440"/>
            <a:ext cx="53733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63840" y="2667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таблицы расх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материалов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7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8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95320" y="355284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Таблица расхода материалов для устройства временной дороги может быть вставлена в чертеж или сохранена в документе формата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icrosoft Wor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851040" y="1549440"/>
            <a:ext cx="7607160" cy="174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9-04-26T12:16:17Z</dcterms:modified>
  <cp:revision>264</cp:revision>
  <dc:subject/>
  <dc:title>Слайд 1</dc:title>
</cp:coreProperties>
</file>