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0AC9-4646-4048-B83A-CF9C40AC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534-752E-4E80-A908-3863C53D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CFC-8DC4-4CE6-85D2-FCEA820F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B40-83A1-4147-86D1-80823008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6E1C-40AA-4CE4-9001-A697CBDA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7F99-6F6A-4497-8E6D-C3C23DD4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7E83-244A-451A-93FA-BA0C663B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0F66-9B6A-46A7-BCED-10E0F79D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FE3F-9712-4F6B-93F2-3F4ECB07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B486-A55B-4E9F-AEC5-AF55B6C1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35EE-7C33-4E5D-8426-C21B54EB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B53-ECA8-4ABF-91AE-AFA336FE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94B8-616C-4DA2-A5EA-7BBD8222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28C1-09AB-404F-851B-8E71D03B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9D8D-17CA-4EB3-AAA7-194076E3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7AE2-E857-432A-ADC8-81C49442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FC30-ACEB-4FD2-AEC6-28271FCE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004-6331-4DC5-AB87-53111D33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9BC-22BE-4B3F-82DC-D176E0E3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FA0-765D-47B4-A839-C68E6A51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52D-7247-4AA0-9F0E-335E97A4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60C-9594-4356-9502-3F6AD40A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858-3D79-4742-BFBA-6F4B37C2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42EF-55ED-4438-BAC7-E6EF9800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9580-E1D8-4354-A8D6-3A0802ABE2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7630-2CBD-4F21-AC2B-B7A8A3E493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ыбор кран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оны ограничения работы кр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892080" y="485604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указать зоны ограничения работы крана по углу и вылету, вычертить зоны предупреждения и проставить координаты вершин зон ограничения относительно указанных пользователем точек отсчет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2220840" y="1114560"/>
            <a:ext cx="5027760" cy="34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зоны ограничения работы крана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1319040" y="1380960"/>
            <a:ext cx="682020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дбора башенных, автомобильных, пневмоколесных, гусеничных и железнодорожных кранов с учетом их исполнений и стрелового оборудования по грузоподъемности, высоте подъема, вылету, параметрам грузов и грузозахватных приспособлений, а также с учетом безопасного приближения крана (рельсового пути) к зданиям и препятствиям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изображений крана в плане и разрезе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 опасной и рабочей зон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формирования отчета по расчету опасной зоны выбранного крана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ычерчивания графика грузовысотных характеристик выбранного крана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автоматизированного формирования фрагментов пояснительной записки  ПОС и ППРк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73080" y="544680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осуществлять выбор крана, построение на чертеже изображений крана в плане и разрезе, включая построение  опасной и рабочей зон, вычерчивание графика грузовысотных характеристик и автоматизированное формирование фрагментов пояснительной записки  ПОС и ППР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522520" y="905040"/>
            <a:ext cx="4629240" cy="44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кр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58880" y="561672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ыбор башенных, автомобильных, пневмоколесных, гусеничных и железнодорожных кранов производится с учетом их исполнений и стрелового оборудования по грузоподъемности, высоте подъема, вылету, параметрам грузов и грузозахватных приспособлений, а также с учетом безопасного приближения крана (рельсового пути) к зданиям и препятствиям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719360" y="858960"/>
            <a:ext cx="562932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Здания и препятств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98480" y="3498840"/>
            <a:ext cx="758988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осуществлять проверку кранов с учетом точки стоянки и списка препятстви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каждого препятствия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задаются его название и тип, а также высота и разность между нулевыми отметками стоянки крана и здания. После добавления препятствия в список и указания его параметров, можно указать контур препятствия на чертеже или начертить его самостоятельно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884320" y="968400"/>
            <a:ext cx="377208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одбор крана по параметрам груз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035000" y="5543640"/>
            <a:ext cx="7589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Подбор кранов может осуществляться на основании параметров одного или нескольких грузов. Пользователь может сформировать список грузов вручную или загрузить его из предварительно сохраненного набора, в том числе сформированного в программном модуле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хемы строповки грузо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1400" y="134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33960" y="193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4838760" y="1219320"/>
            <a:ext cx="3930480" cy="4047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520560" y="1219320"/>
            <a:ext cx="3875400" cy="40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крана в план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6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7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838080" y="5997600"/>
            <a:ext cx="7589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зображение башенных кранов в плане строится с подкрановыми путями, при этом дополнительное место стоянки может вставляться в произвольной точке подкрановых путей. Для всех типов кранов вычерчиваются линии границы опасной и рабочей зон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806400" y="933480"/>
            <a:ext cx="4200480" cy="47815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"/>
          <a:stretch/>
        </p:blipFill>
        <p:spPr>
          <a:xfrm>
            <a:off x="5122800" y="933480"/>
            <a:ext cx="3475080" cy="47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Изображение крана</a:t>
            </a: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ru-RU" sz="2600" spc="-1" strike="noStrike">
                <a:solidFill>
                  <a:srgbClr val="ffcc00"/>
                </a:solidFill>
                <a:latin typeface="Times New Roman"/>
              </a:rPr>
              <a:t>в разрез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7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8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838080" y="58197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ид в разрезе любого из кранов может быть вставлен в чертеж с заданием дополнительных параметров изображения (штриховой вид, привязка к зданию, подкрановые пути, вылет стрелы, рабочая и опасная зоны и т.д.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530280" y="1060560"/>
            <a:ext cx="4219560" cy="45338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4805280" y="1057320"/>
            <a:ext cx="410688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рафик грузоподъемности и высоты подъема кран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9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768240" y="6129360"/>
            <a:ext cx="777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сех кранов возможно построение графика грузоподъемности и высоты подъема крюка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2543040" y="1201680"/>
            <a:ext cx="4272120" cy="475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1-26T13:53:39Z</dcterms:modified>
  <cp:revision>324</cp:revision>
  <dc:subject/>
  <dc:title>Слайд 1</dc:title>
</cp:coreProperties>
</file>