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2060-E75A-4E7F-B9A9-8E5F7BEC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731-114D-4112-A096-F5C3F15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DAC-8D53-4AB1-976D-1E8B4B90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31C-5EC0-445F-971E-70CAD1BA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B15B-9332-410D-A078-336D4DF1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30E5-BC03-414B-8B43-1A37684D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2CAF-9C73-4199-9A00-76A56480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6BC-72FC-494E-AA25-F4FA461C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FC3B-0852-48AD-A8D5-6FA26C70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7E63-2819-4050-9F38-8B72A47F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067A-5ECE-49A2-826D-6DE8BFE0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0E7-ABB5-496A-8523-DD0CE2E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4BA-E405-4BF8-A021-1913AE4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B7F-7045-49C4-A628-4F4E77C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81BF-0F33-4988-910A-B3C4BC59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8496-13A0-4143-8419-590F08B7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0827-7C46-429C-8D50-0506E6C3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7E9-E01C-4961-8884-6C9B9AF6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8F60-AFD6-45CC-A6A6-B3A8B2FF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7FF-DF8E-4F1F-83E8-1B1A574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A18-773D-404D-A548-175BB566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1C2F-1185-428B-98AD-083A6A6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4460-602E-4D6B-8CED-87E4578D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8B6-F9BC-4D2C-A2CF-24677B72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548-BBCE-40D6-9BA0-691EDB7C41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29B5-2C73-4A38-8FA8-4861F86A0C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Геодезический и лабораторный контроль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12840"/>
            <a:ext cx="812160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автоматизированного формирования документации, отражающей вопросы организации службы геодезического и лабораторного контроля качества строительно-монтажных работ, включая примерные положения о геодезической службе в строительстве и о строительной лаборатор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дуль предоставляет пользователю возможность отобрать, скомпоновать, нужным образом отредактировать отобранный материал и оформить его в виде необходимого докумен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едоставляемые материалы основаны на актуальных требованиях нормативно-правового регулирования при проектировании, строительстве и реконструкции объектов капитального строительств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ыходные документы разрабатываются на основе поставляемых типовых раздел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меется возможность создания новых и правки существующих разделов в выходных документ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тметить требуемые типовые разделы и включить их в разрабатываемый выходной документ.  В иерархическом списке разделов выходного документа имеется возможность создания новых разделов и правки существующи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131840" y="1552680"/>
            <a:ext cx="73627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5568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оррекция раздела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89040" y="39798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равки раздела выходного документа нужно задать его новое наименование и, при необходимости, изменить вышестоящий разде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190520" y="1630440"/>
            <a:ext cx="692784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Сохранение выходного документа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48052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зработанный выходной документ можно сохранить для дальнейшей работы, предварительно задав его наименова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676520" y="1298520"/>
            <a:ext cx="6370560" cy="32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выходного докумен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1576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ле завершения ввода всей требуемой информации можно сформировать и открыть в текстовом редакторе документацию, отражающую вопросы организации службы геодезического и лабораторного контроля качества строительно-монтажных работ. С помощью соответствующих флажков в окне настроек печати выходного документа можно указать дополнительные требования к формированию от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933560" y="1400040"/>
            <a:ext cx="5780160" cy="24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9-04T11:54:30Z</dcterms:modified>
  <cp:revision>258</cp:revision>
  <dc:subject/>
  <dc:title>Слайд 1</dc:title>
</cp:coreProperties>
</file>