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BD6-C636-4A83-B269-0CC0C1AC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2CCE-DF37-41AC-8F9F-24CD701A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B3F-DC08-4356-BF13-EF82BFF8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C93-1F53-4167-BF41-08F3376D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37EF-B4E2-404F-BC5E-DB708CC7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B24A-E235-4296-8656-50AC4B62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B658-4398-4694-B900-ABBDE870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B8CF-E8BC-4AE2-B262-39F58090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5E3D-08A2-4FF5-A6AD-D9E5E919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3128-3517-4AA4-BF39-94E6B7E9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4B1B-28F7-4418-BB41-02D73872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4D5-C3B8-4CC4-B78E-36FC0BE2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38B7-3C9D-4F7E-BB68-B4E5C7D7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6449-CECF-4A05-844F-834AB054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F278-2F51-4FC2-8BCD-2BB59990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4B76-7DCC-483D-8B1E-C1BE66CC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A117-06F4-428F-A099-61C61292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F0F-15AB-40AE-A6FB-5ED74E98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067-7D73-4D8A-9B42-395A64A4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008-64DC-47C6-9A4A-D8D6A95D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4F0-F15F-4B94-89D0-EC047B15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E52-4392-4AA2-B684-E3484BE1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F26-FCEF-43BE-A2F6-26D6B9DB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6F0-3C67-45C9-A644-8352CC39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A0D5-EF4B-40C3-931A-F454A8C59F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B7FB-DBF6-4BB6-972E-3130D442A8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Текстовая часть ПОС линейных объект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00240"/>
            <a:ext cx="8121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и оформления в соответствии с требованиями действующих стандартов текстовой части проекта организации строительства линейного объекта. Структура и содержание разделов текстовой части ПОС строго соответствует требованиям, изложенным в Постановлении Правительства РФ от 16 февраля 2008 г. № 87 "О составе разделов проектной документации и требованиях к их содержанию"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екстовая часть ПОС включает в себя позиции, отраженные в упомянутом Постановлении Правительства РФ. Каждая позиция реализуется либо с помощью соответствующего программного модуля (при наличии возможности формализовать задачу и провести необходимые расчеты), либо в виде стандартизованных текстов, дающих возможность пользователю четко изложить вопрос и отразить специфику проектируемого объекта. Для некоторых наиболее сложных и неформализованных разделов пользователю предоставляются примеры их заполнения, заимствованные из уже разработанных и апробированных проектов организации строи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аким образом, данный программный модуль носит собирательный характер и предоставляет пользователю возможность отобрать, скомпоновать, привязать к конкретному объекту и оформить в виде законченного и оформленного документа текстовую часть проекта организации строительства проектируемого объек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60339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246320" y="988920"/>
            <a:ext cx="7324560" cy="495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5494320"/>
            <a:ext cx="81216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 Кроме того, пользователь может настроить способ заполнения текста раздела: вручную, с помощью программного модуля, из существующего документа по объект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87280" y="1158840"/>
            <a:ext cx="6832800" cy="42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та с показателями по объекту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9040" y="5494320"/>
            <a:ext cx="8121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режиме работы с показателями по объекту пользователь может просмотреть показатели работы программных модулей и изменить пользовательские показател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961920" y="947880"/>
            <a:ext cx="722016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76440" y="443376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119240" y="971640"/>
            <a:ext cx="706104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411012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текстовую часть ПОС линейного объект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477800" y="963720"/>
            <a:ext cx="6207120" cy="296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8-03-15T16:01:58Z</dcterms:modified>
  <cp:revision>255</cp:revision>
  <dc:subject/>
  <dc:title>Слайд 1</dc:title>
</cp:coreProperties>
</file>