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BA2E-A52F-4A8D-AE03-0DE2B4E8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ABE-FC13-47E5-86C7-B3626A44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173-BCFE-4923-9687-26092B00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18D-FD9E-4E13-99BC-7019FB89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BAE0-6213-47CC-A909-A5F55C86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CF21-9718-43AD-B859-9EDB2D73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7BFB-48EB-4305-BB76-0CE35919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435E-CD7F-4F20-9314-99BB4844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5219-9526-4A14-BFC4-8D829A55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76F4-37D2-47FB-A80B-1C338540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0012-9624-4BC6-8BA4-D97674A3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E28-3AD0-43AA-BD4E-D9984D48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B304-5D1C-4C34-8CAF-967EA3A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90C4-FF93-4B0D-9232-FDE5D663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48B1-7A59-44AD-B07D-A84E0491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E154-BB23-4C3B-B0B3-7AE5AAEB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AF34-169F-483B-BBE0-9E5E4D43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B99-6A62-4E8D-B36B-141D4C9A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B53-EBA2-44A2-9B62-9038E257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BE5-56B4-4807-B18F-C09B9A66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A95-C86A-4022-B6AE-B94A9FC4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BA2-5E04-498C-9259-C419F23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F48-16ED-49EC-8B2E-4E1E7776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D6C-2643-46A1-832C-5EBC506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990A-9AD5-4D43-956C-0858E99AD4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5130-93DA-4401-A776-79C0747CEE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люлек строительных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люлек строительных (фасадных подъемников) по требуемой грузоподъемности, высоте подъема и типу люльки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консолей по величине требуемого вылет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ых люлек строительных в разрезе и фасад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11360" y="5432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дбор люлек строительных по грузоподъемности, высоте подъема и типу, подбор консолей по величине выл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192400" y="1039680"/>
            <a:ext cx="5257800" cy="42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541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строение строительной люльк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857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строение изображения выбранной люльки и консоли на чертеже в разрезе и фасаде с указанием масштаба постро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801880" y="1289160"/>
            <a:ext cx="4062600" cy="34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строительной люльки на чертеже в разрезе и фасад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1355760" y="1341360"/>
            <a:ext cx="6827760" cy="511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19:39Z</dcterms:modified>
  <cp:revision>236</cp:revision>
  <dc:subject/>
  <dc:title>Слайд 1</dc:title>
</cp:coreProperties>
</file>