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FA90-606F-493A-8157-B034C481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9CB-C59F-4CF8-82F9-A91F5ED6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547-AC5F-4A63-9806-290A525F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047-A4F7-4BBB-90C6-F028AEF2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7D34-EAC8-4A39-83FA-9328408B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5533-CB65-4091-BAEF-9AE95EE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F2DF-F4EE-4D0A-A3AF-777B60E3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ED33-129D-4209-B7F2-AA80936B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75D2-6133-47A4-AEF3-7F1FF363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8641-E7BE-4B37-BF6D-718CA42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95B2-B921-41F7-82A6-CD746AC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A10-5BEB-444B-B0F1-37E2350E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B041-AA9D-450C-B34F-69C5C539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B716-039C-498A-8F4E-590ECE8C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2263-86EC-443C-A818-C595DBB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38A9-D12D-4199-A0C2-3F2148CF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E3D8-C98C-4C09-AF0F-5DDFDAF3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D32-C58E-4EBF-AEFC-6734AA17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4B0-F16C-4BD1-A0B8-714A6D9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C844-5125-4DB9-A7B0-86A4B04A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332-95A5-482C-ABBD-861B188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DEA7-4E3F-4B7A-BBFD-F318238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94C-B6CB-4E98-822C-6118FF58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035-D69A-4F48-A3D3-4EB1F526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ED29-1176-4258-B36E-FA5ABEF987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C108-AAC5-4AA8-B937-C39C34099F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Охрана окружающей среды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50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ов пояснительной записки ПОС и ППР в части мероприятий по охране окружающей сред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привязать к конкретному объекту и оформить в виде пояснительной записки информацию по следующей тематике: общие требования к мероприятиям по охране окружающей среды; состав и содержание перечня мероприятий по охране окружающей среды; общие экологические требования к обустройству и содержанию строительных площадок; экологические требования к временным сооружениям; оборудование пунктов мойки колес; экологические требования к внутриплощадочным дорогам; инженерным сетям и складским площадкам; экологические требования к производству земляных работ; требования к процессу перемещения грунта и отходов; требования к уборке мусора при производстве строительно-монтажных работ; требования  при сносе зданий и сооружений и ликвидации коммуникаций; создание и охрана зеленых насаждений и по другим аналогичным темам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нов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42840" y="996840"/>
            <a:ext cx="73566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71936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7160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фрагмент пояснительной записки ПОС и ППР в части мероприятий по охране окружающей среды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603440" y="1463760"/>
            <a:ext cx="6265800" cy="269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0:11:19Z</dcterms:modified>
  <cp:revision>245</cp:revision>
  <dc:subject/>
  <dc:title>Слайд 1</dc:title>
</cp:coreProperties>
</file>