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FAF-A18F-430F-8CE9-A43E9752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C5D-FA85-4181-A73A-52982BE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31EC-BB3D-40E4-B630-730E3357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9A0-078D-41BA-ACF6-C4A928F3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65F0-BE41-452C-80A6-7FB6C7B9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F5D7-6DF6-48A4-8655-5825DAF4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00D2-0ACC-4438-843D-5F494DEF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D7A3-CDAE-44B9-BFFD-C868017A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F6EC-434F-4E20-A26D-2D404B5D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BB1E-927C-4E3E-B60D-B2B32CC2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C022-19E2-4858-B2FF-2C4A396C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15C-9A03-41D2-9B0F-6F570BC2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7BD6-200E-46D1-B217-66D23F1A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C63F-0FEA-4355-A52A-0E76C4FE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B603-59F3-4E62-A1B8-68B9C3F4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9B6A-B559-4889-A338-BE2654E5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923D-F34D-47B2-BDF9-C694ED6C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5B2-872D-4C93-AD81-73F83A34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E7F-F3C7-44BB-B2DD-2C25C4EE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DBC-DD1A-4BA2-B86E-10639B24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F5FC-F6B2-4E08-90B3-54E63A8D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6AC-22C4-4651-B013-D984DB92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C02-40A5-49E5-B585-7BC72333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B36-EF79-4098-A675-14A3743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5F8B-47B5-4194-933B-6640967EBB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33EA-FF65-4FF7-A129-EB6AC99B93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Подбор землеройной техни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подбор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емлеройной тех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2131920" y="1316160"/>
            <a:ext cx="543888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51000"/>
            <a:ext cx="8121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выбора эффективных землеройных и транспортных средств с учетом условий производства земляных работ. Модуль обеспечивает формирование комплекта машин и оборудования, необходимого для выполнения земляных работ на строительном участке, подбор и расчет необходимого количества марок техн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омплект машин формируется с учетом заданного вида работ, объемов и характеристик разрабатываемых грунтов. Подбор марок техники осуществляется отдельно по каждому виду техники (экскаваторы, самосвалы, бульдозеры, скреперы и пр.) с учетом характеристик машин комплекта. Расчет потребного количества техники производится исходя из ее эксплуатационной сменной производительности, объема и продолжительности раб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а пояснительной записки ППР, технологической карты на земляные работы в части подбора землеройной техники и транспортных сред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796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участок земляных работ, задав основные параметры и перечень разрабатываемых грунтов с их характеристиками, далее для введенного участка работ осуществить подбор техники. Характеристики участка земляных работ можно загрузить из модуля «Разработка котлованов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39960" y="934920"/>
            <a:ext cx="736272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04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участка земляных рабо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58086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участка земляных работ необходимо задать его наименование, выбрать вид работ (в соответствии с ГЭСН или прочие работы), задать продолжительность работ, количество смен, продолжительность смены. Далее для участка нужно сформировать перечень разрабатываемых грунтов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812960" y="947880"/>
            <a:ext cx="577224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землеройно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ики для участка рабо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6689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еобходимо задать тип работ и конкретную работу (если выбран вид работ по ГЭСН), затем  подобрать требующуюся технику и определить ее количество. Подбор техники для производства земляных работ и определение ее потребного количества производится по следующим категориям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экскаваторы, самосвалы, бульдозеры, скреперы и  проче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911240" y="915840"/>
            <a:ext cx="5761080" cy="45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экскавато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7243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экскаваторов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экскавато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38360" y="790560"/>
            <a:ext cx="6248520" cy="481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самосв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57880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количества самосвалов учитываются характеристики выбранного экскаватора, грузоподъемность, скорость передвижения, время разгрузки и маневрирования самосвал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968480" y="781200"/>
            <a:ext cx="562140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177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бульдозе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16040" y="59151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бульдозеров 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бульдоз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981080" y="774720"/>
            <a:ext cx="562140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88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количества скрепер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040" y="5940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количества скреперов необходимо определить их эксплуатационную сменную производительность. Она может быть: введена вручную, в т.ч. рассчитана на основании норм времени по ЕНиР; рассчитана на основании технических характеристик выбранного скрепер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2336760" y="666720"/>
            <a:ext cx="4998960" cy="521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10-19T14:07:16Z</dcterms:modified>
  <cp:revision>260</cp:revision>
  <dc:subject/>
  <dc:title>Слайд 1</dc:title>
</cp:coreProperties>
</file>