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7DE9-FEAA-4C35-9443-1CB65336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A52-41C9-4F77-8D94-A1A331F6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C64-18F4-46FC-B289-02AB284E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311-5C00-4295-9D4A-62402CB3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B953-6335-4AFD-A562-EC37177B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7854-ED12-44CA-B7E6-8BA82A99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AFA2-800D-41E9-B7CB-F6EC949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7579-FC0A-46C6-9B3E-30BE8A33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EB18-E85F-44B5-A76C-8282DE8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7A02-A77A-47CA-B57D-C41D4C20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1558-E8CB-49DF-AB20-A4846777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2F9-7A7F-4975-B854-0CB1B3C5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4A08-6EA3-4E2B-A20E-518DAEC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BCF1-3268-4654-AB1B-1FA1F880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339-0BA6-4094-83CC-F43E6E8A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87EE-98FF-47DD-BEA7-EA562F28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7599-1927-410F-B1D1-E3AC98AE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DA3E-481D-495D-9454-0AB8BF62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2C8-20BD-4364-B651-B359AF41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721-CA7D-4B66-929D-D8EF8A9B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6B0-8A18-4F1C-847D-BF0D993E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797-ED22-4CFA-B903-7057DC53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051-B2C3-45A4-BE29-2DF5BFB8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CB4-2911-475A-B6F0-D1A6394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D069-D05D-44E0-B860-4294728F57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95F4-B16E-49D6-822F-059A167AA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мачтовых подъемн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грузовых и грузопассажирских мачтовых подъемников по грузоподъемности и высоте подъема груз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мачтовых подъемников в плане и разрез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бор подъемников формируется в таблице и сохраняется в чертеже. Подъемники в наборе можно изменять и удалять. Для выбранных в таблице подъемников можно построить изображения в плане и разрезе, а также вставить или удалить выноск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260440" y="963720"/>
            <a:ext cx="5164200" cy="48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мачтового подъемник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625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Мачтовые подъемники можно подобрать по грузоподъемности, максимальной высоте подъема и возможности горизонтального перемещения груза. Высота подъемника подбирается автоматически в соответствии с заданными параметра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52600" y="922320"/>
            <a:ext cx="5016600" cy="470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19044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мачтовых подъемников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78808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й выбранного подъемника в плане и разрезе с указанием масштаба построения. Дополнительно могут быть построены условные обозначения опасных зон и размеры подъемника и опасной зон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4791240" y="1195560"/>
            <a:ext cx="3993840" cy="2662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725400" y="1203480"/>
            <a:ext cx="400536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мачтового подъемника на чертеже в плане и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881360" y="2541600"/>
            <a:ext cx="2485800" cy="3533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5710320" y="1362240"/>
            <a:ext cx="2270160" cy="51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24:51Z</dcterms:modified>
  <cp:revision>248</cp:revision>
  <dc:subject/>
  <dc:title>Слайд 1</dc:title>
</cp:coreProperties>
</file>