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F8E-B675-4C19-AA3C-E43EC9CB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549-45A3-49B4-B983-34BAEED2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033-FA0C-4AFE-AFD0-8125E5FB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6A1-499F-4DED-9BB7-55D4F0E02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F8D8-02D5-4FF4-AA4F-8F9335C0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D4FA-94AC-4CC7-9541-49BEABA6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6278-E9C0-4B07-B754-9559A8C6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0149-2A43-4ABA-B168-BCF7A080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CC0C-4218-4492-9583-73057AB0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2C09-8A86-47F2-B03C-40457971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15CB-7599-481C-8CA2-C881EC5B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9690-545D-4BD7-8A2D-F0EF3C0F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556C-1D9F-470B-9385-9FE0C35F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0C6D-CB57-4FE4-ACA3-14258DEB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90BD-A2DA-4315-8BC9-B9732EAC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622D-3EEC-47B6-A8BF-FE2218FB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0A38-D746-4390-83B2-0EDCD9CB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254-2A04-4851-809E-5D2ADC77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5F9-1F07-4FC2-B83A-ACEF7E77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FDA-9BD8-4F43-93D9-F01020B2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4BA-45DC-47F4-B263-33577D7C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DAB1-A674-416C-A028-83092EE6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252E-C13F-4642-81F3-6E073F28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5FB-C256-40DC-9F3D-77629B57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A720-B637-4F5A-9573-78BBC28620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87D4-1A86-4A7E-8626-AE5386DC90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дкрановые пут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балластного слоя для различных грунтов, типов рельсов, материалов балласта и других параметр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величины давления на земляное полотно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рельсовых путей в плане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и построения на чертеже опасных зон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зон возможного ограничения работы кран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604980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начала расчета необходимо указать нагрузку от колеса на рельс, размер наиболее выступающей нижней части крана, максимальный рабочий вылет крюка и другие необходимые параметры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271520" y="887400"/>
            <a:ext cx="6729480" cy="50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опорного эле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68240" y="43815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Габариты и материал опорного элемента могут быть выбраны из списка или указаны вручну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646280" y="1098720"/>
            <a:ext cx="6178680" cy="31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286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рельсовых путей в план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60320" y="580860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остроения подкрановых путей в плане необходимо указать размер колеи, тормозной путь, расстояние от оси крана до элемента торможения и выбрать тип тупикового упора. В случае необходимости можно указать  также размер рельсового звена и способ расчета длины пу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297160" y="887400"/>
            <a:ext cx="5099040" cy="48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опасных зон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27200" y="448308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оведения расчета опасной зоны необходимо указать наименьший и наибольший горизонтальный размер груза, а также максимальную высоту подъема нижней точки груза. После проведения расчета можно построить линию границы опасной зоны на черт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666880" y="1197000"/>
            <a:ext cx="4340520" cy="31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защитного слоя и давления на земляное полотн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25400" y="571968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защитного слоя и давления на земляное полотно необходимо указать число ходовых колес крана и плотность балластного слоя, а также выбрать тип грунта для определения его параметров. Предусмотрена возможность ввода других параметров грунта, полученных, например, в результате натурных измере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2050920" y="1204920"/>
            <a:ext cx="540252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подкрановых путей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1427040" y="1317600"/>
            <a:ext cx="6701040" cy="48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52:25Z</dcterms:modified>
  <cp:revision>258</cp:revision>
  <dc:subject/>
  <dc:title>Слайд 1</dc:title>
</cp:coreProperties>
</file>