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FE4-1C21-4614-9D50-C6C2042A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781-DE03-473F-9E0F-1BC31677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6FE-A377-4768-AEA9-84046F02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FBEB-9EC6-4346-BDED-65E507DE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EBA6-C242-4BBD-847E-98D2E562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41B-FD36-42AE-A594-2AFE3CA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6DF1-4D41-4C1E-960E-918F1952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D8E5-5C50-44AA-A2ED-B8AB648F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36CE-24E2-4646-BCAC-ABFAB32A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1649-B839-4716-B7EC-A3E518E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B47D-D290-4D9C-A6B7-18A12E3F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C12-CCE7-4ED7-9848-3E98DE41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42DF-76C1-4FEB-8717-4525C10F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2AED-25D8-42D1-A227-7A47BB77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0201-D5F3-43DC-A17B-B530065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8213-BBBD-4695-9957-BF318B6E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F7C7-5D2A-434C-A4D2-A7832325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258-6758-474B-8B87-3DC3B671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E0C-DB39-43F3-A22F-484B95EA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3CCE-5E24-4FFF-A2C0-FAFD6014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884-64AC-4496-87CD-2C4976EB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8BC-EFD7-4080-A14C-7D51F637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E5A-50C2-48B8-92F1-E1B5A00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121-0306-4069-AC0D-9212481E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1E82-46E6-42E0-B053-6B0B9963EB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491F-F803-4C8C-AB4C-CC338097FD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мещение складских площадок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62160" y="2168640"/>
            <a:ext cx="713736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построения на чертеже строительного генерального плана графических изображений складских площадок и складов на основании расчетных данных, загружаемых из программного модуля «Складские площадки»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коррекции загруженной информации, в том числе ввода новых видов склад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вставки в чертеж таблицы экспликации размещенных складских площадок и склад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93800" y="559116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змещения складских площадок необходимо определить их виды и требующиеся площади. Далее нужно сформировать для выбранного вида складирования список складов с их размерами. Это можно выполнить  как вручную, так и загрузив информацию из модуля «Расчет потребности в складских площадках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752480" y="857160"/>
            <a:ext cx="6104160" cy="46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идов склад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60480" y="57722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обавление видов складов производится из соответствующего технологического справочника. Для выбора сразу нескольких видов складов необходимо отметить их флажк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98560" y="1303200"/>
            <a:ext cx="590724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клад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06400" y="5162400"/>
            <a:ext cx="7589880" cy="15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д размещением склада на чертеже имеется возможность настроить его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ип контура склада (прямоугольник, произвольный, выбрать на чертеж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меры  (длина и ширина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ип штриховки склада (не задан, сетка, диагональная), для типов штриховки «Сетка» или «Диагональная» можно изменить масштаб (интервал) штрихов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751040" y="1544760"/>
            <a:ext cx="6024600" cy="32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уппы складов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960" y="5370480"/>
            <a:ext cx="758988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том случае, если количество складов  больше одного, перед размещением группы складов на чертеже имеется возможность дополнительно указать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-во складов в ряду (по умолчанию все склады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складами в ряд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рядами склад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565360" y="1163520"/>
            <a:ext cx="4545000" cy="41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складских площад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893880" y="1762200"/>
            <a:ext cx="756576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23:31Z</dcterms:modified>
  <cp:revision>309</cp:revision>
  <dc:subject/>
  <dc:title>Слайд 1</dc:title>
</cp:coreProperties>
</file>