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98B-49A3-439C-A72B-0872D5BD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039-79FB-4112-BC36-4568D1B2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C31-19D7-4214-8DFA-FCC51380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C9E-5C6B-4FDE-8F33-54D636B9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701E-17C4-4B6F-B0B6-C48AE71E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B7C-C81E-4F0B-8B6D-FA173603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18C3-1DBC-4FCD-9A2E-F3F96727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E2F2-B93F-4829-9F9C-9C197E74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009C-7D67-4D40-8E87-E64E566B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77BE-6915-40A6-B42E-8328BBE1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F649-480E-47FC-B36A-AA9DB921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861-1519-4C11-A912-2835535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3A21-D670-422F-9682-D9A17750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3BE8-CAB1-4224-AD53-9EF26A15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6531-469D-4BFD-B160-D67D222C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E20E-DBD3-4B1E-B58B-37F2F2D8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0FCB-E57B-4AFD-926F-EE768574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2B0-17F1-4DD0-B25D-2311FE18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E2A-819F-42F8-A7B7-6C8AFE57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182-8E5F-4EF7-AB6C-8DE09448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F76-3DF5-4D88-8176-6F064CDC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B5C5-2DD2-486E-A14E-87334D64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EB67-704C-4965-A02B-3983B24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E3D-C284-4044-868B-903A4EAE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E22C-6A0E-42E9-AA3D-AA5AFBB86F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C39B-9651-46C0-93F5-9A5185A054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сновные возможнос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тбор объ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76440" y="55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отбора объектов в электронном техническом архиве по решаемым разделам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ам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1004760" y="1328760"/>
            <a:ext cx="75106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563840" y="2412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сложных разделов и задач проектной документац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9440" y="1314360"/>
            <a:ext cx="8121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 программного комплекса входят программные модули, предназначенные для автоматизированного решения наиболее сложных и трудоемких задач организационно-технологического проект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ля решения графических задач в программных модулях используется система AutoCAD компании Autodesk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ли систем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icsCAD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мпании Bricsys NV. С помощью CAD-системы выполняются графические построения и формируется выходная документация с использованием баз данны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шение расчетных задач базируется на применении СУБД и различных математических метод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ополнительная исходная информация, необходимая для работы программных модулей, содержится в технологических справочниках программного комплекс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е модули обеспечивают решение задач, влияющих на уровень технологической дисциплины в реальных условиях стройки  и которые являются предметом контроля состояния строительного объекта и строительной площадки со стороны проверяющих орган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63840" y="2412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Автоматизация разработки разделов и задач ПОС и ППР с использованием программных модулей в 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CAD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-систем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 помощью CAD-системы выполняются графические построения и формируется выходная документация с использованием баз данных программного комплекса. Имеется возможность настройки свойств (слоев, стилей и типов линий) графических построений, выполняемых с помощью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820800" y="1641600"/>
            <a:ext cx="3647880" cy="39193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5097600" y="1647720"/>
            <a:ext cx="356364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63840" y="16524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676440" y="59976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марок строительной техники, структурированных по основным видам техники. По маркам техники приводится их техническое описание, фото, схемы устройств и чертежи в формате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WG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1461960" y="1133640"/>
            <a:ext cx="667224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563840" y="11448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Типы временных огражд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1165320" y="1074600"/>
            <a:ext cx="7223040" cy="48625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аименований типов ограждений, их графическое представление и список материалов, необходимых для устройства ограждения данного типа, включая нормы расхода на 100 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расхода воды на производственные нуж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расхода воды на производственные нужды по потребителям в литрах на единицу в смен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4"/>
          <a:stretch/>
        </p:blipFill>
        <p:spPr>
          <a:xfrm>
            <a:off x="509760" y="1560600"/>
            <a:ext cx="812448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отребности в электроэнергии на строительную техни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нормы потребности в электроэнергии на строительную технику в кВт на единиц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752400" y="1697040"/>
            <a:ext cx="7734240" cy="37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63840" y="241200"/>
            <a:ext cx="6576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араметры осветительных установок общего равномерного освещения при нормируемой освещенности 2 л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анный справочник предназначен для учета параметров осветительных установок общего равномерного освещения строительных площадок при нормируемой освещенности 2 л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1122480" y="2004840"/>
            <a:ext cx="7103880" cy="36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Марки грузов и грузозахватные приспособления для разгрузки и монта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марок грузов и грузозахватных приспособлений для их разгрузки и монтаж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1649520" y="1581120"/>
            <a:ext cx="64278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складирования материалов и издел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норм складирования количества материалов и изделий, укладываемых на 1 м2 площади склада (без учета проходов и проездов) и норм запа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92000" y="1352520"/>
            <a:ext cx="803304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основанная структура разделов и задач для разработки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76440" y="53640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из основных видов строительства разработана структура разделов и задач ПОС и ППР. Для каждого раздела и задачи приведены соответствующие нормативные, методические документы и примеры выполненных разработок. Решения типовых задач реализованы в программных модулях, обеспечивающих выполнение необходимых расчетов, графических построений и формирование текстовой документации. Перечень разделов и задач ПОС и ППР содержит около 500 наименован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376280" y="1082520"/>
            <a:ext cx="683424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хемы склад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76440" y="57182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 схем складирования материалов и изделий с графическими изображени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1295280" y="1243080"/>
            <a:ext cx="69501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иды строительных грун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1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76440" y="57182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перечень видов грунтов с указанием плотности, коэффициента разрыхления, группы грунтов в зависимости от трудности их разработки механизированным способом одноковшовыми экскаваторами, скреперами, бульдозерами и грейдерами, максимально допустимой крутизны откос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689040" y="1293840"/>
            <a:ext cx="817236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Временные здания и соору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2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676440" y="5832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структурированный перечень временных зданий и сооружений, сгруппированный по видам, список назначений текущего здания с нормативными показателями (полезная площадь или расчетное количество человек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1395360" y="1155600"/>
            <a:ext cx="6353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563840" y="7632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Технологические справочни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Нормы продолжительности строитель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4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76440" y="62262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Справочник содержит структурированный перечень норм продолжительности строительства в соответствии с документами: СНиП 1.04.03-85*, МРР-3.2.81-12, МДС 12-43.200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4"/>
          <a:stretch/>
        </p:blipFill>
        <p:spPr>
          <a:xfrm>
            <a:off x="2166840" y="1139760"/>
            <a:ext cx="5392800" cy="49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63840" y="88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ормативно-методическа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снова разрабо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76440" y="5199120"/>
            <a:ext cx="8121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оставляется удобный доступ к нормативным, справочно-методическим документам, текстовым, цифровым, табличным и графическим материалам. Принцип поиска нужных материалов - идем от конкретной задачи структурированного перечня. Следует подчеркнуть простоту поиска материалов с использованием электронных закладок; проектировщику требуется только задать нужный ему раздел/задачу и все соответствующие материалы будут в его распоряжении. Таким образом, проектировщик, решая конкретную задачу, имеет возможность использовать все имеющиеся по данной задаче материал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1495440" y="1041480"/>
            <a:ext cx="6680160" cy="41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Объек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76440" y="56991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предоставляет возможность создавать, вести и использовать для повседневной работы электронный технический архив. В архиве можно регистрировать объекты и всю проектную документацию по ним, выбирать объект для последующей работы с ним, продолжать работу над документами по объект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66720" y="1128600"/>
            <a:ext cx="7985160" cy="453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объек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76440" y="4613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егистрации нового объекта необходимо ввести его наименование и задать вид объекта. Кроме этого, можно автоматически создать для нового объекта  структуру разделов и задач ПОС и ППР на основе соответствующего справочника со всей информацией (включая файлы примеров, нормативных материалов, методик и т.п.), относящейся к решаемым задача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1643040" y="1395360"/>
            <a:ext cx="63514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Разделы</a:t>
            </a: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ffcc00"/>
                </a:solidFill>
                <a:latin typeface="Times New Roman"/>
              </a:rPr>
              <a:t>задачи и документы ПОС и ППР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1246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 электронном техническом архиве по объект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регистрировать проектные документы отдельно по каждому разделу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е ПОС и ППР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660240" y="1654200"/>
            <a:ext cx="815832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41200"/>
            <a:ext cx="65768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Регистрация проектного документа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305000" y="1668600"/>
            <a:ext cx="6927840" cy="31892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76440" y="50068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егистрации проектного документа по объекту необходимо выбрать раздел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чу, к которой он относится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ести наиме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а и указать на файл докум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4120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Показатели по объ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6048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пользовательских показателей и показателей программных модуле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257480" y="1190520"/>
            <a:ext cx="7043400" cy="47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63840" y="279360"/>
            <a:ext cx="6576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Электронный технический архи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Строительная техника на объек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76440" y="5489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комплекс обеспечивает возможность ввода и хранения в электронном техническом архиве по объекту списка строительной техники с указанием ее количества по каждой марке. Список техники формируется с использованием справочника строительной техники или вручную.  Обеспечивается возможность печати ведомости потребности в основных строительных машинах и механизмах на объекте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036800" y="1371600"/>
            <a:ext cx="7538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1-10T13:38:05Z</dcterms:modified>
  <cp:revision>266</cp:revision>
  <dc:subject/>
  <dc:title>Слайд 1</dc:title>
</cp:coreProperties>
</file>