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2554-37D8-4C89-B41B-894CF197B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DAAE-9227-4E67-BBEE-7AD36788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DD23-D90E-4D02-B43E-5DFD575C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79E7-4A7C-4BFD-8549-47A561A21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ED22-10A8-493D-AD38-98A6E8E5E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84C5-E537-4E01-BE62-47C526D8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9F52-EEB4-484D-834D-ED29930B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869A-A4AB-4B06-9C49-0B0E5C91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FB68-5689-49FB-9397-7805E03F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342C-E972-442B-87A3-8A2D441E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951A-4628-4928-85F2-54A90D41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4FB1-FF5F-4883-BDEC-3A2FAFE4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6FD1-DA6E-4AFC-8989-043F5165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5D98-C47D-442B-9D9A-8A51EB5C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2906-3267-4BB5-AB1C-81B2DB10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C382-1864-41DE-BD19-4E544F63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0B47-8B72-4B87-86C6-70CF89E9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36E2-3FEC-4B0A-8057-96C457D3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0C6F-8D1E-4FF9-AC9B-C784C61C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7397-365E-47D0-9582-2AA949BE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8263-BE0D-4DA1-A973-CFD4121B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F629-E0CF-4EEA-B4BB-DCE205B5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9CC1-02A4-4528-B480-D3809527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BB7D-C86D-4778-AE55-618BCC8D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E3F4-50CE-4902-862E-0322904F09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B933-514D-4C2A-94B6-5BC171A21D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Разработка котлованов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котлована на чертеже в плане и разрез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06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7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2127240" y="1292400"/>
            <a:ext cx="5167440" cy="50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остроение на чертеже съезда в котлован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1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793800" y="478296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котлована может быть построен съезд. Съезд строится внутрь котлована перпендикулярно кромке. При построении съезда вычисляется его объем, который отображается в описании котлована и ведомости объемов рабо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32280" y="2762280"/>
            <a:ext cx="803160" cy="396720"/>
          </a:xfrm>
          <a:prstGeom prst="rightArrow">
            <a:avLst>
              <a:gd name="adj1" fmla="val 50000"/>
              <a:gd name="adj2" fmla="val 50613"/>
            </a:avLst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4"/>
          <a:stretch/>
        </p:blipFill>
        <p:spPr>
          <a:xfrm>
            <a:off x="4836960" y="1535040"/>
            <a:ext cx="3990960" cy="284796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5"/>
          <a:stretch/>
        </p:blipFill>
        <p:spPr>
          <a:xfrm>
            <a:off x="514440" y="2044800"/>
            <a:ext cx="333684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51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пределения объемов земляных работ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строения на чертежах котлованов с естественными откосами и с укреплением стен с учетом заданного рельефа местности, максимально возможной крутизны откосов и выбранных способов крепления стен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ормирования геологических разрезов (колонок грунтов) с выделением различных видов грунтов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ормирования ведомости объемов работ  и обоснования выбора способа крепления стен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строения съездов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асчета баланса грунтов для предварительной вертикальной планиров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озможен выбор различных способов крепления стен: консольные ограждения из труб, двутавров и шпунтов с использованием анкеров, распорной системы и "островного" метода, "стена в грунте", буронабивные сваи и т.д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еализован автоматический подбор креплений на основе глубины разработки и характеристик грунт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381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973080" y="5688000"/>
            <a:ext cx="758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осуществлять формирование и построение на чертежах котлованов с естественными откосами и с укреплением стен с определением необходимых объемов земляных работ. Обеспечивается возможность построения котлованов в плане и разрезах, формирования ведомости объемов работ, построения съездов и т.д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968480" y="561960"/>
            <a:ext cx="5556240" cy="50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Добавление котлована с естественными откосам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58880" y="5578560"/>
            <a:ext cx="758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начала необходимо указать один или несколько контуров, образующих дно котлована. Затем указать исходную структуру грунтов для всей площадки. При необходимости можно сформировать рельеф, задав отметки рельефа в узлах сетки. Имеется возможность уточнить толщину слоев грунтов в каждой точке рельефа, а также рассчитать баланс грунтов для предварительной вертикальной планировк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076400" y="1266840"/>
            <a:ext cx="721980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Формирование геологического разрез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98480" y="539100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сформировать структуру разрабатываемых грунтов с заданием перечня видов грунтов и толщин слоев. Обеспечивается вставка сформированного геологического разреза (колонки грунтов) в чертеж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2108160" y="885960"/>
            <a:ext cx="541008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Формирование рельеф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035000" y="5022720"/>
            <a:ext cx="7589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сформировать рельеф площадки путем задания узловых точек сетки осей с указанием отметок высот. При этом можно задать количество осей сетки рельефа и изменить размер площадки, на которой будет построена сетка рельефа. Минимальный контур площадки определяется автоматически. Для каждой заданной  точки рельефа имеется возможность  изменить толщины слоев геологического разреза (колонки грунтов)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11400" y="134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33960" y="193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139680" y="1152360"/>
            <a:ext cx="4440240" cy="34401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4673520" y="1158840"/>
            <a:ext cx="4314960" cy="34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Добавление котлована с укреплением стен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6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7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758880" y="5578560"/>
            <a:ext cx="758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начала необходимо указать контур, образующий дно котлована. Затем указать исходную структуру грунтов для всей площадки. При необходимости можно сформировать рельеф, задав отметки рельефа в узлах сетки. Затем подобрать способ укрепления стен. Имеется возможность полного или частичного укрепления стен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961920" y="846000"/>
            <a:ext cx="7220160" cy="465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Частичное укрепление стен котлован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6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7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8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758880" y="514656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каждой стороны котлована имеется возможность выбрать свой способ укрепления стены или оставить ее без укрепле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1728720" y="1230480"/>
            <a:ext cx="5686560" cy="36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563840" y="16524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бор способа укрепления стен котлован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6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7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758880" y="5756400"/>
            <a:ext cx="758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озможен выбор различных способов крепления стен: консольные ограждения из труб, двутавров и шпунтов с использованием анкеров, распорной системы и "островного" метода, "стена в грунте", буронабивные сваи и т.д. Реализован автоматический подбор креплений на основе глубины разработки и характеристик грунто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1447920" y="722160"/>
            <a:ext cx="6459480" cy="5019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6-08-23T08:04:33Z</dcterms:modified>
  <cp:revision>374</cp:revision>
  <dc:subject/>
  <dc:title>Слайд 1</dc:title>
</cp:coreProperties>
</file>