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49A-65BB-429E-B0EC-4E14798F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75A-92DB-432A-9531-7111CB27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DB1B-D368-4D60-A036-651E704F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8EF-ABB1-44A6-BD89-E54A9F54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9ACE-EC69-4D9E-A23C-6330E3D9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9180-09B7-4110-BFE3-8571D43B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B3BF-C74D-45DA-8F09-82870F15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1B63-A0F4-45A1-B819-9126B4C7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0BB9-4A70-4C64-9547-A7D851E0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A11A-82B8-49FD-A9FD-66511F85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9141-0446-4AC5-B2B9-2022B2D6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611-72BA-48B1-A894-DCBD2881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A248-2423-4088-B042-06FF7E28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4FE8-A1BB-49DB-9821-F2479159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7E6A-B41C-4310-9562-3CBC9586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5928-919F-4476-A640-9EB90D93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CCD1-7C13-4A34-BA9B-05FDAAEA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5A0-1706-4B01-81B3-B893AAB6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84C-69C8-4E56-BC58-99192476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B5C8-9898-4315-8A02-161334E8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ECC-8DA0-4FEA-9E5A-B03A30F5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D14-D325-484F-B801-02B30713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763-17F2-48F9-B790-010A772A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509-E4BD-4E47-BA53-13C97BB6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E40D-7DC4-4B4B-A46A-45F1A84B3A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B873-C455-483F-9414-BA23530051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жарная безопасность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9320"/>
            <a:ext cx="8121600" cy="55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зработки и формирования фрагмента пояснительной записки ПОС и ППР в части мероприятий по противопожарной защит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привязать к конкретному объекту и оформить в виде пояснительной записки информацию по следующей тематике: общие требования к мерам пожарной безопасности на строящемся объекте; пожарная безопасность зданий и сооружений; системы противопожарной защиты; пожарная безопасность при проведении строительно-монтажных работ; требования к проведению пожароопасных работ; обеспечение безопасности людей при возникновении пожара; ответственность за организацию противопожарной защи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908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93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47894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06480" y="1343160"/>
            <a:ext cx="742464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001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579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322280" y="1347840"/>
            <a:ext cx="6942240" cy="20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42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183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246320" y="1380960"/>
            <a:ext cx="694980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922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1241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фрагмент пояснительной записки ПОС и ППР в части мероприятий по противопожарной защите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79480" y="1393920"/>
            <a:ext cx="578016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9-04T11:39:52Z</dcterms:modified>
  <cp:revision>255</cp:revision>
  <dc:subject/>
  <dc:title>Слайд 1</dc:title>
</cp:coreProperties>
</file>