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899-0482-4E99-9D9A-1DA3FB17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293-3AE4-43B9-9431-F07E0FE3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023-8AFE-4BFC-968E-395F9B0C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86C-E566-4C8F-ABAB-2F0EDD17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4A45-BB8B-4866-B268-3674BF52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A3FA-3B8E-429F-943C-DF6FFF9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DB9A-A1F3-496C-8CC1-81CB020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242-9412-4947-A6A6-3AF63A7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E129-A9D3-474E-8869-39F6A4B1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7F1C-C43A-47C9-AD86-34B2C70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BE6D-DC40-42EB-B987-49ACE116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663-2702-43A8-B9BE-44E6D87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96E8-7B8E-489B-8A2F-7C05DA16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F85-CE61-4EDA-80BB-BBCD148E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4E7B-AEBB-40CE-938F-3130F612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5CCB-3273-4BAB-812D-F525E7A3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5E9-08AB-4E53-9BA9-63177C28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F55-8BB6-45B3-9223-7697E61C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DC29-40E8-4A07-AD7D-18C0B5FB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3A8-52E9-4C9A-9981-DD30667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4BA-2E6A-47B8-A01A-FBEE0ED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2E6B-CD1D-4B7C-B406-10F24B66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104-1076-460A-8777-CEA79D71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CA9-BBF0-4D90-8E7D-A87EAA8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AB8E-A936-4B86-AD3D-B498B19B17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4E03-FC03-4689-BD99-01448889EC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Размещение временных зда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262160" y="2168640"/>
            <a:ext cx="713736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построения на чертеже строительного генерального плана графических изображений временных зданий и сооружений на основании расчетных данных, загружаемых из программного модуля «Расчет потребности во временных зданиях»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Обеспечивается возможность коррекции загруженной информации, в том числе блокирования зданий по длине, ширине и высот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Имеется возможность вставки в чертеж каталожных листов и таблицы экспликации размещенных здани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93800" y="559116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змещения временных зданий и сооружений необходимо ввести участок строительства, задав его наименование, размеры и местоположение на чертеже стройгенплана. Далее нужно сформировать для выбранного участка список зданий для размещения на нем. Это можно выполнить  как вручную, так и загрузив информацию из модуля «Расчет потребности во временных зданиях»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039760" y="941400"/>
            <a:ext cx="544860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участка временны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й и сооруж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88840" y="57024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ожно изменить наименование участка, установить флажок отображения наименования участка на чертеже и указать масштаб построений на чертеже. По каждому зданию хранится следующая информация: наименование здания, наименование проекта (шифра) здания, признак блокирования зданий, габариты здания, количество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43280" y="1027080"/>
            <a:ext cx="561636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ременных зданий и сооружений из справоч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6358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технологический справочник содержит структурированный перечень временных зданий и сооружений. По каждому зданию (сооружению) хранится его описание и список назначений с нормативными показателями (полезная площадь или расчетное количество человек). Имеется возможность фильтрации списка по фрагменту наименования и/или по признаку «Избранное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05000" y="1101600"/>
            <a:ext cx="510696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временного здания или соору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52480" y="59626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се характеристики любого здания или сооружения могут быть изменены. Также при необходимости можно указать способ блокирования нескольких одинаковых зданий по длине, ширине и высот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482920" y="1136520"/>
            <a:ext cx="468612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52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стройка размещения здания (группы зданий)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17560" y="5114880"/>
            <a:ext cx="75898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еред размещением здания (группы зданий) на чертеже имеется возможность настроить его параметры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положение зданий (вертикальное или горизонтальное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ол-во зданий в ряду (по умолчанию все здания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зданиями в ряду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57120" algn="just"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стояние между рядами зд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266920" y="1220760"/>
            <a:ext cx="49482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015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змещение временных зданий и сооружени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836720" y="1160640"/>
            <a:ext cx="610704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21:04Z</dcterms:modified>
  <cp:revision>294</cp:revision>
  <dc:subject/>
  <dc:title>Слайд 1</dc:title>
</cp:coreProperties>
</file>