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13F5-385D-481A-A863-1F632EF8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05F1-88D5-4477-A5CA-B52BF2DF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7021-2722-42E7-9639-04C8BA52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9194-CDC2-4694-A83F-8E27A2F5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AC04-DC31-4AF0-8CF1-B6493335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F335-04D2-485F-9CA8-D892951C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9C12-F28C-4A18-9AD0-98427923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75BA-A24D-4D61-85A2-40DB6454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3A47-18F2-4D1F-AD32-D48E5528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A352-8F6F-4DF5-A35B-5E86AF44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8E63-AE58-4BF8-9B59-A53E4710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40CA-B7FC-460A-AA2E-CB0B39CF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1ADA-F5C4-4E2D-9135-4BF1A9C4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2D36-5E07-4700-9EB9-D1748DD0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17D5-349C-4C73-966B-D5738607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575B-EED3-4838-AC67-FD54B7E9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7E9B-2BB8-435C-8EFD-0408AB4A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BE1F-3AAB-4053-A8EE-3491FE09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17D0-AF45-4AEC-A4BA-6AE90207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8FC-D23D-4592-ABC5-3FD17231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DEB5-1F7B-40C1-B701-D9E95A5A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30D-48E5-4C25-A300-43597FE4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7D9-8EDB-4B14-980A-E2414893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1052-E8FB-46A5-AD59-E44FF8D2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06AF-1769-4732-BAD1-BD0F68D2C2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172B-6D94-4F4A-89E2-1A324F7232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ременное электроснабжени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251000"/>
            <a:ext cx="812160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счета потребности в электроэнергии на строительной площадке для обеспечения силовых и технологических нужд, внутреннего и наружного освещения. Модуль обеспечивает автоматизированное формирование фрагментов пояснительной записки ПОС и ППР в части расчета временного электроснабжения на строительной площадке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ОС расчет потребности в электроэнергии производится по укрупненным показателям на 1 млн. руб. стоимости годового объема СМР с учетом отрасли и района строительства по расчетным нормам. Расчет электрических нагрузок выполняется по периодам строительства или этапам работ по максимально возможной мощности потребления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ПР расчет потребности в электроэнергии определяется по установленной мощности электроприемников с учетом коэффициента спроса и распределения электрических нагрузок по времени. Общая потребность в электроэнергии рассчитывается на период максимального расхода и в часы наибольшего ее потребления. Рассматриваются следующие группы потребителей: строительная техника, технологические процессы,  внутреннее освещение, наружное освещение и сварочные трансформаторы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В программном модуле используются технологические справочники норм количества электроэнергии на 1 млн.руб. годовой стоимости СМР, нормы потребности в электроэнергии на строительную технику, нормы потребности в электроэнергии на технологические процессы, норм потребности в электроэнергии на внутреннее освещение, норм потребности в электроэнергии на наружное освещение, нормы потребности в электроэнергии на сварочные трансформаторы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97384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ввести схему (вариант) электроснабжения, далее в зависимости от указанного типа расчета задать показатели, необходимые для расчета расхода электроэнерги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536840" y="812880"/>
            <a:ext cx="6391080" cy="50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049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схемы (варианта) электроснабж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45514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вода схемы (варианта) электроснабжения необходимо задать его наименование и указать тип расчета. При необходимости можно изменить значение коэффициен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279440" y="1387440"/>
            <a:ext cx="6924600" cy="26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временного электроснабжения на основе мощности потребителе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(для ППР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потребителя электроэнерги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537696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вод потребителей для расчета потребности в электроэнергии осуществляется по группам потребителей (строительная техника, технологические процессы,  внутреннее освещение, наружное освещение и сварочные трансформаторы) с использованием справочников норм потребности в электроэнергии,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правочника строительной техники, списка строительной техники на объекте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или задается вручную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488960" y="2259000"/>
            <a:ext cx="6604200" cy="28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временного электроснабжения по укрупненным показателям годовой стоимости СМР (для ПОС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4830840"/>
            <a:ext cx="812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чет потребности в электроэнергии на основе нормативных показателей годовой стоимости СМР производится на основании справочника норм количества электроэнергии на 1 млн. руб. годовой стоимости СМР по отраслям промышленности. Для расчета данным способом необходимо ввести ряд показателей (годовая стоимость СМР, отрасль промышленности, индекс пересчета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954000" y="1992240"/>
            <a:ext cx="7593120" cy="24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ременного электроснабжения для ПО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1557360" y="1384200"/>
            <a:ext cx="63342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563840" y="12708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ременного электроснабжения для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1592280" y="1092240"/>
            <a:ext cx="6315120" cy="558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4-10-15T13:45:25Z</dcterms:modified>
  <cp:revision>217</cp:revision>
  <dc:subject/>
  <dc:title>Слайд 1</dc:title>
</cp:coreProperties>
</file>