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684-BB0D-4EE0-864C-DA93A1EF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AC72-53E7-4FBE-8FC4-7E5244C4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C27-1649-4C0E-B0FA-3F706358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1AE-4314-49EF-89FA-8A51308F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CD2B-0DAF-456E-BC68-A292939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0839-E1DA-401D-8508-D5D296C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CEEF-AE4B-4106-A0AE-15F6DF9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D6E-0A7D-4DF9-AC54-05DECB19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DF9D-5D78-4FB8-9CF3-7C037B37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37FE-A9FA-47F8-992A-A2CC8539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66E-D814-4FCD-A1C6-44B1AD0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FD2-616B-4776-B6F1-43DDFBB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6171-98D0-4CF1-BBD6-2B95526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A35D-3ABA-4FDD-AD68-B0E11DA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09D4-8270-4F46-A2A3-608F6352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2F6-DA2C-403F-84D2-109CF584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4A5-C4E0-45F1-95AD-73CF12CA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893-C23D-4CB9-B98F-363EF8D8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322-58FA-4264-A5D6-FCCA676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5C7-1305-4E11-A07F-D90F953A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258-494D-43F7-928E-99EF82C7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D1A-6AF4-49C3-AA76-C2C00C90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D758-6FA9-44EE-80A5-511A642E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C05-E362-4351-8A22-ED75613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AE6-26EB-443E-923A-170E44017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8DC8-6279-497D-9159-9F7F20910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30 позиций, начиная от характеристики района по месту расположения объекта строительства и кончая описанием мероприятий по противопожарной защите; все позиции отражены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866880" y="890640"/>
            <a:ext cx="7367400" cy="51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28600" y="1019160"/>
            <a:ext cx="6927840" cy="42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547640" y="1162080"/>
            <a:ext cx="6266160" cy="270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15:04:29Z</dcterms:modified>
  <cp:revision>253</cp:revision>
  <dc:subject/>
  <dc:title>Слайд 1</dc:title>
</cp:coreProperties>
</file>