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63A-B9A3-4B5B-822C-80FCF0B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BA35-BD6E-4E34-84AC-229CEC4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9F1E-3E2E-4B36-9DE3-FF36F39E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826-5A6B-4A0A-8934-9AF46C4A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77DD-1966-4276-A314-0C8A6569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D0FD-722D-4E77-8B4E-F911A702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05F1-E6AA-4CB6-B98B-C0194E81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303F-9B89-4122-8CCD-643D15AA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CD0B-FFCF-4FEC-A56F-1C52F688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161D-D832-44AB-AFA6-12B3D6A0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330-2C0F-4886-965F-72D5DD1B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B62-9F18-43AC-ACBA-0F559193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F2D-0C77-49A6-84A1-158C964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812C-8F3A-49CC-81BD-DBD54E81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17C9-44BA-49D5-A2B4-324D773C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F6AB-C525-4036-8558-A712F6D9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4179-0E9D-4638-B3E8-D0FA1E60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6A5-8266-419F-AA78-751ED93E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64D-F14B-4EB1-A3E5-2415CE1B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9EA-638D-45BC-9ADD-7B9BFE9A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F5C-8EBC-4C70-BCE2-71E30B2A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842E-67ED-43A3-B8BC-1FA6B0F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34AF-E8D3-484E-8C20-A0B8C7D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457-50FF-441C-B836-C8530E9B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9652-02AC-49B6-B860-EFF4E9DC32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A211-9359-4628-83D1-5CBAFF481D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4164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ности в  топлив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52520"/>
            <a:ext cx="812160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чета количества топлива, необходимого для обеспечения работы машин и механизмов на весь период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четы производятся на основании данных норм потребления топлива различными машин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01720" y="518796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ввести потребителей топлива и ГСМ и задать их количество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Учет дорожно-транспортных, климатических и других эксплуатационных факторов производится с помощь соответствующих поправок. При необходимости можно также задать нормы расхода смазочных материалов на 100 л общего расхода топлива. По каждому потребителю требуется указать нормы расхода топлива по видам раб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38440" y="868320"/>
            <a:ext cx="607680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270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потребителя топлива и ГС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259680"/>
            <a:ext cx="812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исок машин и механизмов формируется на основе справочника или вводи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47720" y="1209600"/>
            <a:ext cx="7648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о справочником поправок к нормам расхода топли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53388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Учет дорожно-транспортных, климатических и других эксплуатационных факторов, изменяющих норму расхода топлива, производится при помощи поправочных коэффициентов (надбавок), регламентированных в виде процентов повышения или снижения исходного значения нормы.  Доступен ввод поправок вручную или из соответствующего справочни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936720" y="1265400"/>
            <a:ext cx="7648560" cy="38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потребности в топливе и горюче-смазочных материалах на строительной площадк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214720" y="1751040"/>
            <a:ext cx="5659200" cy="4759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8-12-21T12:36:37Z</dcterms:modified>
  <cp:revision>201</cp:revision>
  <dc:subject/>
  <dc:title>Слайд 1</dc:title>
</cp:coreProperties>
</file>