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36B-F3CD-48A5-A9A1-CF03415C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542-725E-4F35-9B75-5739CC01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6E2-6B7D-4C42-A8FA-E5907F12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D75-F450-4ED6-A19F-D9B095BF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9D7-3862-46BA-89BA-4F59138C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417C-8A81-4622-A021-52465711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D4C5-C057-47C3-9E42-C77069B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04AA-88B5-477F-90F7-5E9BFFF3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20B0-35DB-4EE0-B2D5-3D5B211D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D195-A486-4827-B59D-A01889D7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F5B-329A-44CF-9ED0-FDBEA9BE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2BB-B037-49FE-BE80-E56409A7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78B7-B9A4-492F-A468-E9D90E2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394B-6FAB-4F3E-9EBC-280FF78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B4F6-7C05-469B-8872-689A369A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D0F3-04DF-46DA-8AA0-FDC6B6E3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AFFC-4EDC-4E6F-BE7E-F8FDA922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9A8-5F1B-41FD-95CD-E30F579C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B0C-6129-442F-9CF2-C91A2BA2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FA4-1E54-4C8C-A572-5BF5BBAA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2F2-ABC4-4AD6-8262-B5B44690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6A6-3090-41F3-A127-867558E9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FC5A-62D9-4D2C-BAA2-2376281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92F-0FB4-4332-A6C2-4A652BE1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1D35-E91B-4DA9-A37E-C141D436B2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690-EB60-4024-BE9A-8534896D7C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14504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ое планирование производства работ» (ППР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шинах и механизм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11280" y="1197000"/>
            <a:ext cx="820872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47640" y="11592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движе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бочих кадров по объект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828720" y="1125360"/>
            <a:ext cx="79912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193760"/>
            <a:ext cx="812160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производства работ по возведению здания, сооружения или его части на уровне документации для ПП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составляемом календарном плане производства работ устанавливаются последовательность и сроки выполнения работ с максимально возможным их совмещением. Исходной информацией для календарного плана служат показатели сметных расчетов: перечень работ, необходимые для выполнения работ ресурсы, трудоемкость выполнения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 программном модуле реализованы простые и эффективные способы взаимоувязки выполняемых работ, что дает возможность легко и быстро построить сетевую модель и оптимизировать продолжительность выполнения работ для различных вариантов их выполнения. Предусмотрена возможность учета фактически выполненного объема раб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формировать документы, предусмотренные составом и содержанием ППР: календарный план производства работ, графики потребности в материалах, машинах и механизмах, графики движения рабочей си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ксимальное использование результатов сметных расче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373720"/>
            <a:ext cx="812160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еализован импорт информации из сметных программ: в формате единого блока обмена АРПС 1.10 и в формате программы "Гектор: Сметчик-строитель". В программу календарного планирования автоматически загружается перечень работ из сметы, необходимые для выполнения каждой работы ресурсы, трудоемкость выполнения рабо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подключения любой сметно-нормативной базы данных и/или создания собственной базы дан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87280" y="981000"/>
            <a:ext cx="6624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етевая модель 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551664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стые и эффективные способы взаимоувязки работ позволяют легко и быстро построить сетевую модель. Можно задавать условия начала работы в зависимости от процента выполнения или количества дней после начала/до окончания какой-либо из взаимосвязанных работ календарного пла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619280" y="1000080"/>
            <a:ext cx="609588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317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Диаграмма Га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661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водить многовариантные расчеты сетевой модели (критического пути, резервов времени) с оптимизацией по продолжительности выполнения работ при изменении количества машин и механизмов, составов бригад, технологических схем производства работ и других параметр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19280" y="838080"/>
            <a:ext cx="61214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мпорт объемов выполнен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11280" y="5661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вод фактического выполнения объемов работ возможен посредством импорта актов выполненных работ из программ сметных расчетов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 и ручной ввод фактических объемов для работы или группы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7640" y="907920"/>
            <a:ext cx="61930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189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ногоуровневые календарные план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58053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многоуровневых вложенных календарных планов производства работ дает необходимую степень детализации календарных планов и возможность объединять календарные планы для управления ресурсами на уровне строительной организа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6769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календарного план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изводства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755640" y="1197000"/>
            <a:ext cx="792000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47640" y="1890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графика потребности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  материала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79400" y="1589040"/>
            <a:ext cx="6029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757080" y="1125360"/>
            <a:ext cx="7991640" cy="554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1:33Z</dcterms:created>
  <dc:creator/>
  <dc:description/>
  <dc:language>en-US</dc:language>
  <cp:lastModifiedBy>-</cp:lastModifiedBy>
  <dcterms:modified xsi:type="dcterms:W3CDTF">2013-06-24T11:55:47Z</dcterms:modified>
  <cp:revision>188</cp:revision>
  <dc:subject/>
  <dc:title>Слайд 1</dc:title>
</cp:coreProperties>
</file>