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FBF-48A9-42D6-8C8B-21265CA2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9FEA-4CFD-454A-89B2-CFAD9DA6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F2E-7920-4568-871B-1C877149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6EF-0991-45C7-8F72-DFECCB5D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C228-3438-4939-A0D0-10338613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F568-2BD1-4B66-AFF4-1B55DF94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37EA-C55C-42E5-9B7A-D1F0B18B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1866-43EB-4D7B-AF02-05EEEEF6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7D12-DF1F-4BB1-B3E7-360A6A6D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13FD-90F2-4922-BEBA-DE715A09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E0DB-79AF-4F44-9945-B3B6B6CA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E7B-13A9-4933-AEC0-13F5E911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46F8-077C-4274-A411-08E6896C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25E0-0F61-4E37-8D0B-36A3FB92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6539-1A2E-48D7-92BD-74742D13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F634-4FBD-4B4A-92A5-E2140743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A218-EE90-4023-8055-13EEEBB4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8C6-3B05-41D3-BB80-DA5EB1A9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7374-C211-446A-94D1-0BE9A041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801-62E2-4BF5-A903-CD4B34AC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A9FA-CCC2-4ED5-AE03-51F45AE7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C75-BAD7-4FDF-A0DD-E2A35370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B37-72EB-434B-97C2-6843A0D1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F55-808F-49D1-800F-1F207806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58EF-20AA-438F-98C6-8582EAD687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ADBE-21A6-434D-8981-0CCF854C81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Охрана строительной площад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ов пояснительной записки ПОС и ППР, описывающих мероприятия, обеспечивающие комплексную охрану строительной площад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проанализировать, скомпоновать, привязать к конкретному объекту и оформить в виде фрагмента пояснительной записки всю информацию по тематике, связанной с охраной возводимого объек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иводится перечень возможных угроз безопасности объекта и имущества, находящегося на стройке и даются рекомендации по их устранен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собое внимание уделено обеспечению антитеррористической защищенности возводимого объек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14400" y="1639800"/>
            <a:ext cx="763740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792440" y="1739880"/>
            <a:ext cx="577188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53960" y="1079640"/>
            <a:ext cx="6667560" cy="34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4280" y="426240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пользователь может сформировать и открыть в текстовом редакторе фрагмент пояснительной записки, учитывающий особенности охраны строительной площадки в период строительств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47720" y="1231920"/>
            <a:ext cx="6205680" cy="267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28:49Z</dcterms:modified>
  <cp:revision>269</cp:revision>
  <dc:subject/>
  <dc:title>Слайд 1</dc:title>
</cp:coreProperties>
</file>