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5FD1-D835-4C2C-992A-C10DD5BB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557-CBD5-41F1-9E02-719ED94C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624-D99D-465D-8B7B-9C5D7319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3EE-D0B9-42D5-BA17-BE590761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9322-CEDE-462F-96CA-D1050588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E371-74A2-406B-874A-661BB4A5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00B2-650E-4941-A11F-21D33867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563F-1377-4AF4-B079-7FCB4BFF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ADD2-7B6B-4F1E-B77E-D306C454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779B-5492-49CA-85EA-632D3C43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5714-1850-4137-AF74-02B0D21E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ADF-C613-4855-9721-E925485D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5418-91C2-42E1-8CF9-D8629275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33B0-91B3-4606-9DF4-343E2FDA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B703-2D95-4F96-864F-D3E89985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0C83-1B29-476B-956B-F08287D1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5553-1659-44E1-8145-DCAFE7A8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93D-487A-471E-8DB1-E992C69C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733-506F-4C50-807C-D43A5FD1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05DD-917C-4D50-A265-22B6304F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854D-1080-43D8-9153-29E2CD4F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868-7FA7-4FF6-85ED-223FDD89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13E-6FC9-4913-8E00-7343C1C7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1D4-3D25-4583-A14F-2C174FD3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D14F-8238-4700-B35D-4977CE60DF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B61E-C893-4E90-8A4B-02BECB3138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4164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потребления топлив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52520"/>
            <a:ext cx="8121600" cy="25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количества топлива (бензин, дизельное топливо), необходимого для обеспечения работы машин и механизмов на весь период строитель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асчеты производятся на основании данных норм потребления топлива различными машинами за час работы, потребности в основных строительных машинах и механизмах и потребности в транспортных средствах и грузоперевозк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28640" y="48150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добавить новый проект или открыть существующий. При создании нового проекта вводится его наименование и продолжительность строительств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585800" y="1166760"/>
            <a:ext cx="635652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270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списка машин и механизмов, потребляющих топлив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62596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исок машин и механизмов для проекта формируется на основе справочника машин или вводи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35080" y="1050840"/>
            <a:ext cx="6978600" cy="51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та со справочником машин и механизмов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16040" y="4919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программном модуле имеется возможность изменения пользователем справочника машин и механизмов. При добавлении новой машины или механизма необходимо ввести наименование и нормативное количество потребления топлив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27240" y="1249200"/>
            <a:ext cx="71722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 количества топлива, необходимого для обеспечения работы машин и механизм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1147680" y="1774800"/>
            <a:ext cx="7534440" cy="302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0T07:10:18Z</dcterms:modified>
  <cp:revision>200</cp:revision>
  <dc:subject/>
  <dc:title>Слайд 1</dc:title>
</cp:coreProperties>
</file>