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705-FAD4-4283-9A41-A3684EF3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B0C-7EC3-496C-BC82-47CEBAE7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540-06D3-451D-9706-203ACB78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D92-06C4-4093-9F45-F30B9C56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BEA5-F6CA-4108-8776-8F34ED4C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65E1-58B5-412A-A8EB-BE575BA3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5167-DEA1-4260-AF84-C187E577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3A2E-8E5C-4374-98C9-BD0B1718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6623-23EB-4345-901A-47110DC0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5B20-2836-464C-AEA3-7FB12F93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8EF5-0F61-4393-B462-020EFE81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1FA-3357-4FC3-8FAC-B00E5F84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5075-6CA4-41F1-AB53-5E449B9F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E995-1A1B-4854-B3A7-7403A4B2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1DC0-645E-4B04-B543-86188234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D6D7-97A3-4CCD-A0C1-F1168B9D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4E4F-4D79-421B-988E-030DFA09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F89-4FE7-40E5-A5BF-1251E1FA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1BD-53D3-48D1-9755-22C2DB67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1FB8-D1A5-4337-B827-4160AA44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5B2-0679-450B-A7BC-9F5200A4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16C-4811-4087-8AB2-79E58D5E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25C-DA23-4C0D-970D-F485E8F8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930-1980-4164-9B95-09A68EBE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6193-E59E-4B3B-8B55-113C3CAED1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BD62-7295-4E71-9B9C-EB6C8CD261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Техника безопасност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073160"/>
            <a:ext cx="8121600" cy="56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документации, отражающей вопросы техники безопасности и охраны труда. Программный модуль состоит из следующих пяти разделов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Задачи техники безопасности, решаемые на стадии ПОС; в разделе помещены материалы, освещающие общие вопросы обеспечения безопасности труда, требования безопасности при эксплуатации машин, механизмов, инструмента и т.д., всего 7 задач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Задачи техники безопасности, решаемые на стадии ППР; в разделе помещены требования безопасности при производстве отдельных строительно-монтажных работ, всего 20 задач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Задачи техники безопасности, решаемые при разработке ППРк; содержит общие требования безопасности при эксплуатации грузоподъемных механизмов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Отраслевые типовые инструкции по охране труда; в разделе помещены инструкции по основным строительным специальностям, всего 64 инструкции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Гигиенические требования; в разделе помещены требования к организации рабочих мест в разных условиях производства СМР, гигиенические требования к оборудованию и механизмам, гигиенические требования к выполнению отдельных строительно-монтажных работ, организации рабочих мест и т.п.; всего 36 задач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нужным образом отредактировать отобранный материал и  оформить его в виде необходимого документ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2624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84080" y="1192320"/>
            <a:ext cx="7981920" cy="39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068480" y="1793880"/>
            <a:ext cx="6946920" cy="20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500120" y="1484280"/>
            <a:ext cx="60962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424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документацию, отражающую вопросы техники безопасности и охраны труд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298520" y="1374840"/>
            <a:ext cx="6748560" cy="2908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4-13T14:39:42Z</dcterms:modified>
  <cp:revision>252</cp:revision>
  <dc:subject/>
  <dc:title>Слайд 1</dc:title>
</cp:coreProperties>
</file>