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89D6-EAB8-4D94-83DD-86338FE31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33BD-7E6E-44A1-B911-4FDD76A33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F5CB-BD2F-4A52-94BC-F472A3A76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8D77-546A-4EAE-9111-372901494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74F4F-BAE1-49A9-8507-1F31B0B9B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89653-349E-4679-BE93-5AD1FAB51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38E64-028F-4B16-BDA9-927082B18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5FDF5-E5FA-4F88-B01E-F677A35D1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1FB83-76B6-4CF4-AA00-0F72D3EF7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9F1A7-A7A2-4992-817A-28B7C6771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6BBE1-375A-46E0-97BD-C682348DD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844F-636D-4F9C-8A79-DF2A8E0B6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6D036-CB37-4166-8B52-83211AEA3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17A28-BC38-4932-8E1B-A6D9E14D8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65E9E-8ED4-463A-A3D1-5D173DFB5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1366D-CF60-49F1-A9D4-B2AE3A498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65390-4764-498F-9C67-C333711F6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829D-22EA-4CC9-BF99-2995AB560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FC1F-6C7A-44C7-8588-E74A8A8C0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9348-4533-4DF2-8B2F-95EFA27A5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3D8A-9533-4E9E-904E-1386140A0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41E3-A210-484B-971C-E20A54501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EFF4-89A7-4F4A-B346-FF82C273C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C089-4D86-40DA-A68C-DA846BC3F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3D8F7-16E2-472C-9EB0-BEEB38AF247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6E971-C8BD-493F-A268-331221CE57E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043520"/>
            <a:ext cx="8158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«Условные обозначения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49440" y="1314360"/>
            <a:ext cx="8121600" cy="23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: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вычерчивания и вставки в чертеж строительного генерального плана знаков и линий условных обозначений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формирования и вставки в чертеж таблицы экспликации условных обозначений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вставки в чертеж  цветографических знаков из ГОСТ Р 12.4.026-2001 и дорожных знаков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1746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лавное окно 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743040" y="4321080"/>
            <a:ext cx="758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рограммный модуль позволяет вставлять в чертеж точечные и линейные условные обозначения, а также формировать и дополнять таблицу экспликации условных обозначений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2405160" y="1108080"/>
            <a:ext cx="4840200" cy="306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Формирование и дополнение таблицы экспликации условных обозначен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743040" y="4905360"/>
            <a:ext cx="7589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создания или дополнения таблицы экспликации формируется набор условных обозначений, на основании которого формируется таблица на чертеж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658800" y="1479600"/>
            <a:ext cx="3807000" cy="328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5"/>
          <a:stretch/>
        </p:blipFill>
        <p:spPr>
          <a:xfrm>
            <a:off x="4959360" y="1649520"/>
            <a:ext cx="3610080" cy="30574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4289400" y="3902040"/>
            <a:ext cx="803160" cy="397080"/>
          </a:xfrm>
          <a:prstGeom prst="rightArrow">
            <a:avLst>
              <a:gd name="adj1" fmla="val 50000"/>
              <a:gd name="adj2" fmla="val 50567"/>
            </a:avLst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563840" y="21600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Условные обозначени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5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743040" y="5153040"/>
            <a:ext cx="758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Точечные условные обозначения (знаки) вставляются в чертеж в виде блоков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4"/>
          <a:stretch/>
        </p:blipFill>
        <p:spPr>
          <a:xfrm>
            <a:off x="2181240" y="1163520"/>
            <a:ext cx="5283360" cy="384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Линии условных обозначен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6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793800" y="5446800"/>
            <a:ext cx="7589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Создание линейных условных обозначений возможно двумя способами: как набора блоков (Линии УО) или в виде единого объекта (Линии УО как типы линий). В последнем случае рассчитывается длина линии с учетом масштаба, а также возможно автоматическое формирование таблицы экспликации по построенным на чертеже линиям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103840" y="1158840"/>
            <a:ext cx="122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Линии У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929920" y="1092240"/>
            <a:ext cx="180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Линии У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ак типы лини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4"/>
          <a:stretch/>
        </p:blipFill>
        <p:spPr>
          <a:xfrm>
            <a:off x="658800" y="1641600"/>
            <a:ext cx="3959280" cy="28778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5"/>
          <a:stretch/>
        </p:blipFill>
        <p:spPr>
          <a:xfrm>
            <a:off x="5178600" y="1965240"/>
            <a:ext cx="3408120" cy="219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Изображение линий условных обозначений на чертеж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7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9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4"/>
          <a:stretch/>
        </p:blipFill>
        <p:spPr>
          <a:xfrm>
            <a:off x="1279440" y="1368360"/>
            <a:ext cx="6797880" cy="475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1563840" y="21600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Знаки ГОСТ Р 12.4.026-2001 и дорожные знак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87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88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9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743040" y="4543560"/>
            <a:ext cx="7589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Знаки ГОСТ Р 12.4.026-2001 и дорожные знаки вставляются в чертеж в виде цветографических растровых изображений.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4"/>
          <a:stretch/>
        </p:blipFill>
        <p:spPr>
          <a:xfrm>
            <a:off x="244440" y="1419120"/>
            <a:ext cx="4286160" cy="299736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5"/>
          <a:stretch/>
        </p:blipFill>
        <p:spPr>
          <a:xfrm>
            <a:off x="4762440" y="1486080"/>
            <a:ext cx="4152960" cy="287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cc00"/>
                </a:solidFill>
                <a:latin typeface="Times New Roman"/>
              </a:rPr>
              <a:t>Изображения цветографических знаков на чертеже и в таблице эксплика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9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99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4"/>
          <a:stretch/>
        </p:blipFill>
        <p:spPr>
          <a:xfrm>
            <a:off x="1139760" y="1447920"/>
            <a:ext cx="7302600" cy="4991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3-06-18T09:51:58Z</dcterms:modified>
  <cp:revision>264</cp:revision>
  <dc:subject/>
  <dc:title>Слайд 1</dc:title>
</cp:coreProperties>
</file>