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F3C1-46C7-44F6-8FFA-10E250D53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C8D4-85B9-4694-B217-C7963178B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117A-DEC8-4881-A886-C090719E3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F351-174F-4C18-8FD0-C10A872F1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684A3-6706-4700-9A50-AB8B123EB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EC6F8-934E-46C3-B193-55CF15755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A4552-7D65-4FDC-BDD9-5FF83BAA1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A7F95-086F-4640-BC56-8F79FAA40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021AC-53ED-4E12-BF32-BDE07FD3D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86103-434C-4BD3-854D-15EE43DE0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E2485-460F-46AF-8037-A05A3BF7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F9E7-8D1B-4FB0-8F19-391417BE8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B6569-D41E-4694-881B-F282F28C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88C0B-952E-4EC6-9EAF-5C8545CF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2D85C-65FA-4640-A397-60C8F2BEB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EC4DE-E541-4259-B214-F46641A79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14BF2-053F-445C-9F52-A94AC1EEA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88CE-73FA-465B-8494-DD18464E9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FEEE-284C-4023-A717-A1467B0EA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9A7D-BF4F-4317-811F-44B310A70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628C-38C0-473B-A7FC-F141BC7F8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0761-6E9A-4F6C-BB6F-4392C7F8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21A8-F903-4647-A4B1-5A41C71D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2132-EF07-4645-89F7-5EA97407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0D3CF-BE0C-472F-AEC2-B24F7D76CD5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83B3C-F43F-4B61-AF4C-E0A359338C9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43520"/>
            <a:ext cx="815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Временное освещение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1314360"/>
            <a:ext cx="812160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 определения необходимой освещенности строительной площадки и участков производства работ, подбора, расстановки и расчета необходимого количества источников света и потребной для их питания мощности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indent="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Подбор и расчет осветительных установок производится для рабочего (общего равномерного, общего локализованного или местного), аварийного, эвакуационного и охранного освещения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indent="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Модуль обеспечивает автоматизированное формирование фрагментов пояснительной записки ПОС и ППР в части расчета временного освещения на строительной площадке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indent="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В программном модуле используются взаимосвязанные технологические справочники участков строительных площадок и работ, параметров осветительных  установок для разной нормируемой освещенности, типы прожекторов и ламп, минимально допустимая  высота установки прожекторов/светильников и т.д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indent="268200" algn="just">
              <a:spcBef>
                <a:spcPts val="476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17460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9196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839880" y="4929120"/>
            <a:ext cx="7589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Необходимо определить участки стройплощадки (производства работ) и ввести для каждого из них необходимые показатели по требуемым типам освещения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360360" algn="just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общее равномерное освещение при нормируемой освещенности 2 лк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360360" algn="just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общее равномерное освещение при нормируемой освещенности 0,5 лк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360360" algn="just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общее локализованное (локальное) или местное освещение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360360" algn="just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аварийное освещение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360360" algn="just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эвакуационное освещение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360360" algn="just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охранное освещени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1913040" y="809640"/>
            <a:ext cx="5846760" cy="404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Общее равномерное освещение строительной площадк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876240" y="5454720"/>
            <a:ext cx="7589880" cy="14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подбора и расчета осветительных установок для общего равномерного освещения строительной площадки при нормируемой освещенности (2 или 0,5 лк) необходимо ввести список участков с нужным типом освещения. По каждому из участков задаются следующие показатели: нормируемая освещенность,  ширина и длина участка,  параметры осветительных установок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2173320" y="1373040"/>
            <a:ext cx="4919760" cy="39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291960"/>
            <a:ext cx="65768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Локальное, аварийное, эвакуационное и охранное освещение строительной площадк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876240" y="5594400"/>
            <a:ext cx="7589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подбора и расчета осветительных установок для локального, аварийного, эвакуационного или охранного освещения необходимо на соответствующей вкладке ввести список участков с нужным типом освещения. По каждому из участков задаются следующие показатели: тип участка, длина и ширина участка, параметры осветительных установок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2367000" y="1638360"/>
            <a:ext cx="4944960" cy="38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результата расче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ременного освещения для ПОС и ППР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370720" y="0"/>
            <a:ext cx="773280" cy="7621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"/>
          <a:stretch/>
        </p:blipFill>
        <p:spPr>
          <a:xfrm>
            <a:off x="2085840" y="1276200"/>
            <a:ext cx="5513400" cy="42516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876240" y="5683320"/>
            <a:ext cx="758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В документ будет выведена следующая информация: исходные данные, рассчитанные значения, формулы, использованные для расчетов, таблицы с нормативно-справочной информацией, названия нормативных документов – оснований проведения расчетов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5-01-26T13:58:14Z</dcterms:modified>
  <cp:revision>288</cp:revision>
  <dc:subject/>
  <dc:title>Слайд 1</dc:title>
</cp:coreProperties>
</file>