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8A2-67D6-4662-816C-2C049903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C46-8583-4AD1-A8A2-F5EBED9E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0F4-9778-4E21-8180-1F01D58B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ADA-C9F3-4583-9BB8-D3D76665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C8E4-6A2E-462C-B34A-67C5669D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58BA-9D1C-4D52-8677-ED7BA1F3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991E-24BE-4C09-A67F-9364CC29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41BA-E3C1-44CB-86D2-7BF60122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B02A-FF21-43FE-95DF-7C5FA21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674-A14C-4DEB-8510-42B72FC6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0B7F-1E14-4D1D-86D2-0695F6E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DD1-08CC-4463-B606-A95A962E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E96D-E126-48EE-9588-16ED723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D077-10D1-419B-8EC0-9E4C3A09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04FB-EAB2-4290-BE28-A5541C5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5EA-8EDA-489D-B2AA-A30A5D03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94EB-92C9-43D7-96EB-84C44458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B5F-6B92-46A5-BD37-B770AC9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88C-7FF1-47B6-83E6-C1F9E803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1B1-B3E3-4C05-9C47-23EC995A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996A-E239-4B13-B1C2-6C04087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D88-A042-4F4B-BF79-8CD605D4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57E-2049-4BC4-8DBF-0B274470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848-6FD5-43B0-939E-347C3F1A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8A8D-025F-4BD9-80C3-1884CBA34B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FABD-40FD-4C75-9662-6B56B50FB9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фундаментной плиты под кран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литы, обеспечивающей безопасную эксплуатацию строительных и других кранов общего назначения, портовых кранов, а также кранов, устанавливаемых на объектах, исключающих возможность перерыва в раб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и расчетах учитываются характеристики крана, параметры критического груза, возможная ветровая нагрузка, а также марки бетона, арматуры и стали для анкерных бол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316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характеристики крана, параметры критического груза, возможную ветровую нагрузку, а также марку бетона и назначение крана. Расчет проводится в два этапа: в начале определяется тип и количество анкерных болтов, а затем производится расчет фундаментной плиты по устойчивости в соответствии с характеристиками гру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78000" y="819000"/>
            <a:ext cx="525168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анкерных бол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5740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анкерных болтов необходимо выбрать марку стали, а затем конструкцию бол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00280" y="1031760"/>
            <a:ext cx="425448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352600" y="3382920"/>
            <a:ext cx="4765680" cy="2224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524480" y="2871720"/>
            <a:ext cx="485640" cy="598680"/>
          </a:xfrm>
          <a:prstGeom prst="downArrow">
            <a:avLst>
              <a:gd name="adj1" fmla="val 50000"/>
              <a:gd name="adj2" fmla="val 30819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фундаментной плиты по устойчив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60320" y="5923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плиты, полученные в результате подбора анкерных болтов уточняются по результатам расчета плиты по первой и второй группам предельных состояний. Также определяются параметры армирования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2135160" y="1211400"/>
            <a:ext cx="5595840" cy="46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фундаментной плиты под кр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38320" y="1276200"/>
            <a:ext cx="5610240" cy="522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8T08:07:42Z</dcterms:modified>
  <cp:revision>258</cp:revision>
  <dc:subject/>
  <dc:title>Слайд 1</dc:title>
</cp:coreProperties>
</file>