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402-E754-448A-957B-0281EA8B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5E9-CF4C-4089-B207-608B0AD9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4EF-1256-46DC-AA48-622E9C88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2C6-2570-4B91-A975-3909B997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1A93-042C-4E8E-8841-71511B38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A25C-4E5B-4FD6-A814-175BED87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E88C-B7E6-405B-92D5-91379EE7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CFA3-DBF0-410E-9F40-4F296A92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70DD-74F3-4CF0-B1E8-596F044F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018F-48BB-4827-84B6-698E3C62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70F6-A7A3-4961-A359-9732EA0A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0E1-6F75-4B68-A398-ED4B4E32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FD21-B757-4490-8055-8123AD6E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9CE4-1935-4198-BBE8-E64A3A6B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ADE3-3489-4A5D-B7E2-4AF952DA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5A41-52EC-48C0-AE2A-93712840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5A02-176F-4E7D-BD88-5E069C52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ECE-937A-4A28-893D-510221E7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0AC8-64C2-4F2B-8613-9E4040E3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5F5-0A3E-4A66-93F4-2E0FED6B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80A-333B-489D-BF27-56638537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AFA-798F-472E-A0FC-73CD59F9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A92-0B33-4B66-BD9E-BFDBE698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1CB-988B-4E5C-8CC2-73855829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8835-AF98-4824-994B-F9E6E7A99D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AC80-C801-4436-B90C-56C9DF3360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Складские площад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асчета потребности в складских площадях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1639800" y="1386000"/>
            <a:ext cx="629604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ности в складских площадях на строительной площадке для хранения материалов, изделий, оборудования, машин. Складские площади вычисляются отдельно для случаев открытого хранения, хранения под навесом и хранения в закрытом складе. Модуль обеспечивает автоматизированное формирование фрагментов пояснительной записки ПОС и ППР в части обоснования размеров складских площадок на строительной площадк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складских площадей ведется по укрупненным показателям  на 1 млн. руб. максимального годового объема СМР (для закрытых складов и навесов) и/или на основе норм запаса, фактическом расходе и периоде потребления складируемых материалов и оборудования (для открытых складов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складских площадей  основывается на нормах запаса, фактическом расходе, периоде потребления складируемых материалов и оборудования с учетом норм количества материалов на 1 м2 площади склада и коэффициента использования площади скла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31960" y="5600880"/>
            <a:ext cx="794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пределить варианты расчетов с нормативами для ПОС или ППР и ввести для каждого из них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чень складируемых материалов и изделий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чень складируемого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625760" y="895320"/>
            <a:ext cx="615780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варианта расче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82720" y="5473800"/>
            <a:ext cx="76294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сти наименование варианта и задать все параметры расчетов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ип нормативов (для ПОС или для ППР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коэффициенты неравномерности поступления и потребления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одовую стоимость СМР и индекс пересчета в цены 1969 г. (для варианта с нормативами для ПОС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2617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011240"/>
            <a:ext cx="692784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материалов и изделий с нормативами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31960" y="5600880"/>
            <a:ext cx="794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ОС необходимо указать складируемые материалы и изделия с нормативами, приведенными на физические измерители или на 1 млн. рублей годового объема строительно-монтажных работ. Можно выбрать ручной ввод параметров складирования или использовать справочник норм расчетной площади склада для материалов и издел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62120" y="1265400"/>
            <a:ext cx="6262560" cy="42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оборудования и машин с нормативами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960" y="5600880"/>
            <a:ext cx="7942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ОС необходимо указать складируемое оборудование и машины с нормативами, приведенными на физические измерители или на 1 млн. рублей годового объема строительно-монтажных работ. Можно выбрать ручной ввод параметров складирования или использовать справочник норм расчетной площади склада для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87680" y="1252440"/>
            <a:ext cx="626904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материалов и изделий с нормативами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31960" y="5838840"/>
            <a:ext cx="794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ПР необходимо указать складируемые материалы и изделия с нормативами, приведенными на физические измерители. Можно выбрать ручной ввод параметров или использовать справочник норм складирования материалов и издел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954080" y="1198440"/>
            <a:ext cx="5919840" cy="46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оборудования и машин с нормативами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831960" y="5786280"/>
            <a:ext cx="794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2617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ности в складских площадках на стадии ППР необходимо указать складируемое оборудование и машины с нормативами, приведенными на физические измерители. Можно выбрать ручной ввод параметров или использовать справочник норм складирования оборудования и маши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370160" y="1436760"/>
            <a:ext cx="6962760" cy="42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обоснования размеров площадок для складирова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455840" y="1363680"/>
            <a:ext cx="6724440" cy="515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25:14Z</dcterms:modified>
  <cp:revision>300</cp:revision>
  <dc:subject/>
  <dc:title>Слайд 1</dc:title>
</cp:coreProperties>
</file>