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5F1-817E-47C6-8527-3468706B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42A-C47C-4821-8181-28F20B27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9D71-A3D5-4B78-B7BA-73215F64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EF20-52C1-467C-9596-DA6BD60F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0A89-7586-4736-9704-9ABD6AA7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2546-D30F-4B93-AAED-8D8FB084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EED0-ED70-4B7D-B8D3-B510502B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BEE5-FB29-4118-B403-916DF82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A0CD-E923-4833-B9C0-333D188C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8BB6-8477-4DEB-88E0-390D93FF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3F61-4CBA-4042-8B7B-4F40C68F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339-83E8-4CF0-BD75-835B1163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5024-0EAB-4A9C-A161-E5C6638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8487-29B5-45A9-98EA-BECF8DC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9E1C-4593-4247-B03B-BEAB592E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3F07-FF7A-4F6D-B0BF-F085F363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91FC-EB75-40E5-944F-D358F46A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7F4-6F5F-429F-9C1A-CC7084A9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0A5-751F-46C6-BFDA-D9AA35F8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34C-0EB6-4AB7-ACBE-65770B9A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422-34EB-4925-94EA-7F61E17B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5CF-FA52-4CC7-BEC7-63AE87DD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39D-8BCB-4FFC-BC05-929D132A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DFC-82B9-494B-96B9-DA9CF85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C192-D24B-412A-ABF2-18DB1F459F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D381-295F-4DB9-AB8F-4CFF7B3649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145040"/>
            <a:ext cx="770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бщие свед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 программном комплекс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36480" y="1038240"/>
            <a:ext cx="8121600" cy="55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 предоставляет пользователям уникальный инструмент для разработки необходимой и обязательной для строительства документации: проекта организации строительства, проекта производства работ, технологических карт и т.д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ля каждого вида строительства приведен полный набор разрабатываемых  документов, их разделов и отдельных задач, по каждой задаче даются  основополагающие нормативные документы и методики разработки проектных решений, примеры апробированных проектных решен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разработке и постоянном совершенствовании продукта активно участвуют опытные проектировщи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ля каждого разрабатываемого проектного решения по разделу/задаче ПОС и ППР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иводятся нормативные и методические документы с удобными средствами поиска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излагается существо задачи и требования к содержанию исходной и выходной информации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даются примеры апробированных проектных решений в электронном виде, которые могут служить хорошей основой для собственных проработок (шаблоны - эталоны решений);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18252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ставляются современные средства автоматизации выпуска расчетной, графической и текстовой документации (программные модули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значение 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50880" y="1363680"/>
            <a:ext cx="8121600" cy="53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 уникален и не имеет аналог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Структурированный перечень разделов и задач ПОС и ППР значительно облегчает проектировщику поиск необходимых нормативных и методических материалов и примеров выполненных разработок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Наличие программных модулей позволяет автоматизировать решение наиболее трудоемких и сложных задач и снизить трудоемкость разработки соответствующих разделов проектной документаци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Удобные и технологичные интерфейсы обеспечивают возможность простого ведения и пополнения электронного технического архи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спользование имеющихся графических и документальных баз данных значительно облегчает работу проектировщик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"Гектор: Проектировщик-строитель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- инструмент, необходимый проектировщикам ПОС и ППР, инженерам групп подготовки производства, преподавателям и студентам ВУЗ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совместим с графическими пакетами AutoCAD и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rics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CAD последних версий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ограммный комплекс позволяет работать как в локальном режиме на отдельном компьютере, так и в сетевом режиме с поддержкой одновременной работы нескольких пользовател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36480" y="1528920"/>
            <a:ext cx="812160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еет действующий сертификат соответствия RA.RU.АБ86.H00951, выдан ООО ЦСПС - органом по сертификации программной продукции в строительстве, срок действия с 01.09.2016 по 31.08.201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меет свидетельство об официальной регистрации программы для ЭВМ № 200761352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гражден Золотой медалью "Лауреат ВВЦ" уд. 245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вляется Победителем конкурса лучших ИТ-решений "Продукт года" всероссийской выставки информационных технологий SofTo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комендован к использованию в московском строительстве экспертной комиссией по новой техни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3840" y="293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ертификаты и награ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комплекс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63480" y="1406520"/>
            <a:ext cx="8121600" cy="45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фортная, всесторонняя и оперативная поддержка по телефону или по электронной почт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нсультации в помещении фирмы или с выездом в офис пользовате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астие в регулярных бесплатных семинарах и вебинар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едоставление демоверсии и презентации по программному комплекс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ьготное получение новых верс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200" spc="-1" strike="noStrike">
                <a:solidFill>
                  <a:srgbClr val="99ff99"/>
                </a:solidFill>
                <a:latin typeface="Times New Roman"/>
              </a:rPr>
              <a:t>Мы призываем к сотрудничеству специалистов по организации и технологии строительства: поставленные Вами типовые задачи, имеющие общий интерес, будут решаться и поставляться на безвозмездной основ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63840" y="293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льзователям программного комплекса гарантируетс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563840" y="204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ак нас най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0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8360" y="858960"/>
            <a:ext cx="869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Адрес НТЦ "Гектор": г. Москва, ул. Огородный проезд, д. 20,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стр. 1, 7 этаж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сайт 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http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://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www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gektorstroi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mail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support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@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gektorstroi</a:t>
            </a: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i="1" lang="en-US" sz="1700" spc="-1" strike="noStrike">
                <a:solidFill>
                  <a:srgbClr val="ffffff"/>
                </a:solidFill>
                <a:latin typeface="Times New Roman"/>
              </a:rPr>
              <a:t>r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imes New Roman"/>
              </a:rPr>
              <a:t>Тел./факс: (495) 510-15-4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ТЦ "Гектор" поддерживает и постоянно развивает сеть представителей в Москве и регионах России. Обратившись к нашим партнерам Вы всегда можете рассчитывать на самый высокий уровень обслуживания. По вопросам сотрудничества и получения дополнительной информации обращайтесь в отдел по работе с партнер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2040" y="3745080"/>
            <a:ext cx="4113360" cy="21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99"/>
                </a:solidFill>
                <a:latin typeface="Times New Roman"/>
              </a:rPr>
              <a:t>Как к нам проехат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От м. Тимирязевская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втобусом 19 до остановки "Пивоваренный завод" (3-я остановка) или маршрутным такси 319 до остановки "Пивоваренный завод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втобусами 12, 126, 23 до остановки "Огородный проезд" (2-я остановка). 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522360" y="3354480"/>
            <a:ext cx="4159080" cy="34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8-26T11:04:54Z</dcterms:modified>
  <cp:revision>135</cp:revision>
  <dc:subject/>
  <dc:title>Слайд 1</dc:title>
</cp:coreProperties>
</file>