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FCD6-F6FC-4F35-9D9D-61CA67612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078D-70CD-4C28-B326-CAED9AB1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A968-4A03-4982-8E8A-921E7D1AE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3DA2-7A04-434E-B2C3-D6C2C17DA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C4BA-B2E0-4975-911D-7A52BB5C5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68EF-A881-4268-90CE-7DDAE94C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CDD5-F6B6-44AB-92AF-BBAD7D8F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9CF6-2C92-4222-BDBD-6C115CDE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60DD-08C2-4105-B398-8ADD0AAE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9655-1659-4A2F-A1BE-8DD57BDB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E1EC-2C37-4463-89BA-5E8A58EA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C8A9-AAAA-4DF7-B81F-2E507BA9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9920-D37E-45C2-8E17-F988C3D0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265E-F2B2-4068-A566-913F2D5D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2F7F-9822-4DE9-A75E-21D8D9CA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9405-CFF6-49E7-BD36-C7D1CD106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E1CB-C4C4-44FE-8882-F1920E39F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1D91-E5B6-4D86-8354-7052F183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5447-F818-44CF-87CE-BA394B53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02C1-10EE-47A1-9AE3-ABFDB176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8F71-B710-4D58-82DD-5EFCDBB7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E33C-3EF3-467F-B1F0-67EE1CA3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AED2-3FDD-418E-9385-5DB08AFA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3A19-9B89-4EAA-A639-9BD0638D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2B38-AD65-4DD1-8711-E6E544246B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DE8A-19EA-4D8B-B75F-9D2472F084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68720"/>
            <a:ext cx="770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Стесненные условия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212840"/>
            <a:ext cx="8121600" cy="54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автоматизированного формирования фрагмента пояснительной записки ПОС, учитывающего особенности проведения работ в условиях стесненной городской застрой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Модуль предоставляет пользователю возможность отобрать, скомпоновать, привязать к конкретному объекту и оформить в виде фрагмента пояснительной записки информацию по следующей тематике: общие положения по проектированию и строительству объектов в стесненных условиях; особенности производства работ в стесненных условиях; устройство ограждающих конструкций котлованов в стесненных условиях; особенности устройства оснований и фундаментов в стесненных условиях; особенности разработки ППРк для условий стесненной застройки; вопросы демонтажа и сноса зданий и сооружений в стесненных условиях; особенности проведения мониторинга строительства и реконструкции в условиях стесненной застрой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ыходные документы разрабатываются на основе поставляемых типовых раздел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меется возможность создания новых и правки существующих разделов в выходных документ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56307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отметить требуемые типовые разделы и включить их в разрабатываемый выходной документ.  В иерархическом списке разделов выходного документа имеется возможность создания новых разделов и правки существующих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266840" y="1440000"/>
            <a:ext cx="6845400" cy="38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оррекция раздела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89040" y="39798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равки раздела выходного документа нужно задать его новое наименование и, при необходимости, изменить вышестоящий разде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976320" y="1405080"/>
            <a:ext cx="7459560" cy="21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охранение выходного документ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76440" y="48052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зработанный выходной документ можно сохранить для дальнейшей работы, предварительно задав его наименов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252440" y="1014480"/>
            <a:ext cx="683280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3938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584280" y="4262400"/>
            <a:ext cx="812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осле завершения ввода всех необходимых данных пользователь может сформировать и открыть в текстовом редакторе фрагмент пояснительной записки ПОС, учитывающий особенности проведения работ в условиях стесненной городской застройки. С помощью соответствующих флажков в окне настроек печати выходного документа можно указать дополнительные требования к формированию отче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152360" y="1065240"/>
            <a:ext cx="6794640" cy="2927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6-04-11T12:36:39Z</dcterms:modified>
  <cp:revision>276</cp:revision>
  <dc:subject/>
  <dc:title>Слайд 1</dc:title>
</cp:coreProperties>
</file>