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8A9-B8AB-4AD4-8BA8-5724A797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3A9-3982-492B-BFE8-997C798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5EB-F5FF-4E8D-8368-434FECB4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16E8-C67D-4E69-92A3-86671357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54CC-7C63-451B-AAF7-9BC05E82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F502-7C36-4C2F-9228-645A2360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0E04-A51D-4506-82B4-114CECA0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4B50-FC9C-4AB7-A8B0-CDD8D8C0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979E-F7D0-4325-A729-BC730539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2F95-A435-4741-970C-F3ADD533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50EC-84EA-41DC-9547-D8CEE5E2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90E-5311-4265-BD66-6C90021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95E3-3F68-4DBC-BC9B-BB5E0C0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6300-72CB-48E5-9399-CC2EA7E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DF32-C4E2-4AC6-A223-3C919EEE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B802-1964-4F7C-926C-65881BE5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03E0-F584-4167-9FA3-65605003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EC8-D069-481F-B280-45E7B39E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45F6-119A-42C7-9232-CBCB10D2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33D-D8C8-46A8-AE86-B93378F8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E656-EBF1-4DE7-BF13-80E9B05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24B-9280-4022-B4BE-9F91AABA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E43-6D0A-4657-A8E8-5078324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30D-D5E4-4E85-B75A-617B8610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746A-1C87-402B-87C3-06089734A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4E64-5C99-43E1-B1DA-3BABB6E925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хемы складирова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8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мещения на чертеже принятых схем складирова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Используемые схемы соответствуют нормативным требованиям техники  безопасности к складированию отдельных видов строительных конструкций и материалов открытого хранения, а также требованиям пожарной безопас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Для определения потребности в площадях для складирования материалов и изделий, оборудования и машин можно воспользоваться модулем 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Складские площад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672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лавное окно программного модуля позволяет вставить в чертеж выбранную схему порядка складирова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85960" y="985680"/>
            <a:ext cx="5981760" cy="44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складирова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098800" y="1641600"/>
            <a:ext cx="5376600" cy="44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14:46Z</dcterms:modified>
  <cp:revision>271</cp:revision>
  <dc:subject/>
  <dc:title>Слайд 1</dc:title>
</cp:coreProperties>
</file>