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545-A71F-4F1D-8EF5-08B72BDC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372-6910-4F23-89A3-980C9015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DA-4270-4437-91B3-2EA3B298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98F-FD74-4799-BAF6-0C208F5D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DB47-65ED-4AEC-BF39-AFEDB637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57F3-1EEC-43ED-8956-56B8EA9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3F82-F5FC-40F3-AAB5-7390955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3347-AE60-4A28-A0AC-E931E08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1105-8BF2-4684-B655-966ED360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FEC6-EFE5-4938-975B-1F49CD0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1B4-A07E-4401-B725-0CA1A6C0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E98-05A6-47AE-B681-F497A1C6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1DDD-D2BB-4B7A-BC5B-3768D9E6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A952-82D6-4B43-8DC8-8B11DB8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AD9F-879E-46EC-AD0C-496A5DBF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A46F-5D5B-494A-8FCE-404E71B4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3D58-F3AE-439C-8474-C618A84D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C91-6098-470B-9BB1-7F5783B0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6C2-15FD-4CE0-B6EA-97B83D96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937-0535-4219-8820-111062E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8DE-AC1E-4AE7-A4A6-591E2115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AAA-EAA5-40D6-B40E-3AB3125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5BB2-FAE8-4996-9B7F-C63C7ED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9CE-ED51-4E7C-BB10-6105BF5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7088-6A7E-4138-96EE-8E7ACF180D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E28A-9896-4CFE-B8FD-F6CA148338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Условия действующего предприят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учитывающего особенности проведения работ в условиях действующих производственных объе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сформировать перечень необходимых мероприятий, подлежащих согласованию между застройщиком и генподрядной организацией, учесть дополнительные опасные факторы, возникающие при производстве работ на территории действующего предприятия, составить перечень дополнительных исходных материалов, необходимых для составления ПОС и ППР, в которых должны быть отражены конкретные условия выполнения СМР на территории действующего предприят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собо выделены факторы стесненности рабочих зон при выполнении СМР и ограниченной возможностью применения типовой технолог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79560" y="1590840"/>
            <a:ext cx="753408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79640" y="1504800"/>
            <a:ext cx="734040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57200" y="1125360"/>
            <a:ext cx="6783480" cy="35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особенности проведения строительно-монтажных работ в условиях действующего предприятия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03240" y="1293840"/>
            <a:ext cx="6150240" cy="264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4:58Z</dcterms:modified>
  <cp:revision>267</cp:revision>
  <dc:subject/>
  <dc:title>Слайд 1</dc:title>
</cp:coreProperties>
</file>