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592-1CB1-4B18-90F7-F4902166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813-6DF8-4DBF-978B-15A9F02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07F-3462-4A93-BC8C-79AA9DE5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80E-BF03-44BB-80D6-945F61CD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215E-48D1-4E4F-82C5-DB3A4062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1B83-2C44-43AF-B868-D542493D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AD8E-1CA5-4A1E-8DD1-C46D81B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F533-8808-4705-B4CE-E0E8BAC1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35F5-022D-4864-9FD3-AD9F3ED1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C179-9BC0-4876-9C84-B1F37CE1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0C16-F002-4A7A-9971-A50B727D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8C3-EA4F-4274-BAFC-407207A5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A3D2-6009-44AF-A9A1-CE604A5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BCD0-ADDC-4309-931E-126694C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D74D-CA93-4E43-A64B-6083737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147E-4CCB-4C31-A37C-4DEE0D44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6764-3EE3-4A12-9D27-01FC1CDE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D75-8BDB-4EC7-ABCB-1011393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84D-F1B1-44E5-8B4C-B8E6F2BE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96C-53B3-404E-96E3-CE03AEDB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97F-7559-47E9-803A-9EF615D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169-00F3-4EA6-BAED-BA62FDF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7CF-C22C-466C-8548-D563361D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FE0-E1FA-4691-8BCE-95981B70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B534-AFF9-4FC6-8D1B-EEA05ADE75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4F58-D442-4D71-9174-CCB5513915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1880" y="369720"/>
            <a:ext cx="1165320" cy="641520"/>
          </a:xfrm>
          <a:prstGeom prst="flowChartDecision">
            <a:avLst/>
          </a:prstGeom>
          <a:solidFill>
            <a:srgbClr val="0068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000" y="243000"/>
            <a:ext cx="855504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технический центр «Гектор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граммный комплек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«Гекто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оектировщик-строитель»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ерсия ЭКСПЕРТ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Инструмент для разработки проектов организации строительства (ПОС),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проектов производства работ (ППР), технологических карт (ТК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Свидетельство РФ о регистрации в Реестре программ для ЭВМ № 20076135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5760" y="25884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15480" y="26496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0080" y="4068720"/>
            <a:ext cx="770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ограммный моду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Times New Roman"/>
              </a:rPr>
              <a:t>«Временное водоснабжение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18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" descr="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3840" y="39384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диаметра труб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0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16040" y="411948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извести расчет необходимого диаметра труб временной водопроводной напорной се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1639800" y="1328760"/>
            <a:ext cx="66438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водоснабжения для ПОС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1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500120" y="1407960"/>
            <a:ext cx="6448320" cy="510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ечать результата расчет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ременного водоснабжения для ПП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322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3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1638360" y="1374840"/>
            <a:ext cx="640080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49440" y="996840"/>
            <a:ext cx="81216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Программный модуль предназначен для расчета потребления воды на строительной площадке для обеспечения производственных, хозяйственных и противопожарных нужд. Модуль обеспечивает автоматизированное формирование фрагментов пояснительной записки ПОС и ППР в части расчета временного водоснабжения на строительной площадке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ОС расчет потребности в воде на производственные и хозяйственно-бытовые нужды производится по укрупненным показателям на 1 млн. руб. стоимости годового объема СМР с учетом отрасли и района строительства по расчетным нормам. Расход воды на противопожарные нужды принимается согласно нормативным документам. Также имеется возможность определения суммарного расхода воды на объекте и расчета диаметра труб временного трубопровод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Для формирования пояснительной записки ППР расчет потребности в воде на производственные нужды производится на основании данных о конкретных потребителях в наиболее загруженную смену. Расход воды на хозяйственно-бытовые нужды также определяется по конкретным потребителям по нормативным показателям. Расход воды на противопожарные нужды производится раздельно для наружного и внутреннего пожаротушения в соответствии с назначением и объемом зданий заданной функциональной пожарной опасности. Также имеется возможность определения суммарного расхода воды на объекте и расчета диаметра труб временного трубопровода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68200" indent="-268200" algn="just"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Times New Roman"/>
              </a:rPr>
              <a:t>В программном модуле используются технологические справочники норм расхода воды на производственные нужды, норм количества воды на 1 млн.руб. годовой стоимости СМР, норм расхода воды на хозяйственно-питьевые нужды и пропускной способности труб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11280" y="73080"/>
            <a:ext cx="6577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Краткое описание функци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25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6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63840" y="21600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Главное окно программного моду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3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76440" y="59738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Необходимо ввести схему (вариант) водоснабжения, далее в зависимости от указанного типа расчета задать ряд показателей, необходимых для расчета расхода воды на производственные, хозяйственно-бытовые нужды и пожаротушение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901800" y="952560"/>
            <a:ext cx="7421400" cy="49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63840" y="317520"/>
            <a:ext cx="657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схемы (варианта) водоснабже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4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76440" y="4640400"/>
            <a:ext cx="81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ввода схемы (варианта) водоснабжения необходимо задать его наименование и указать тип расчета. При необходимости можно изменить значения коэффициентов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1584360" y="1319040"/>
            <a:ext cx="6348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63840" y="291960"/>
            <a:ext cx="65768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с учетом работы производственных потребителей 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Ввод производственного потребител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5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76440" y="524988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вод производственных потребителей для расчета потребления воды на производственные нужды производится с использованием справочника норм расхода воды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правочника строительной техники, списка строительной техники на объекте  или задается вручную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1521000" y="2246400"/>
            <a:ext cx="660060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63840" y="291960"/>
            <a:ext cx="657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с учетом работы производственных потребителей (для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хозяйственные нуж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6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716040" y="563076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Для расчета потребления воды на хозяйственные нужды необходимо ввести численность работающих в наиболее загруженную смену. При необходимости можно уточнить число часов в смене, а также задать ряд показателей для учета водоснабжения душевых и столовой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76440" y="2568600"/>
            <a:ext cx="8151480" cy="29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563840" y="291960"/>
            <a:ext cx="6576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временного водоснабжения по укрупненным показателям годовой стоимости СМР (для ПОС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производственные и хозяйственно-бытовые нуж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7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16040" y="573264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Расчет расхода воды на производственные и хозяйственно-бытовые нужды производится на основании справочника норм количества воды на 1 млн. руб. годовой стоимости СМР по отраслям промышлен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611280" y="2612880"/>
            <a:ext cx="818676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63840" y="44460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расхода воды на пожаротуш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(для ПОС и ППР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8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716040" y="4653000"/>
            <a:ext cx="812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ля расчета потребления воды на пожаротушение сначала необходимо задать способ расчета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кумент - основани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):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МДС 12-46.2008, МГСН 1.01-99 или СП (строительные правила). Далее ввести все показатели, необходимые для расчета расхода воды для выбранного способа расчет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69880" y="1509840"/>
            <a:ext cx="816300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63840" y="291960"/>
            <a:ext cx="65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Расчет общего потребления вод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00"/>
                </a:solidFill>
                <a:latin typeface="Times New Roman"/>
              </a:rPr>
              <a:t>на объекте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4000" y="55832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4000" y="6381720"/>
            <a:ext cx="360360" cy="360360"/>
            <a:chOff x="54000" y="6381720"/>
            <a:chExt cx="360360" cy="360360"/>
          </a:xfrm>
        </p:grpSpPr>
        <p:sp>
          <p:nvSpPr>
            <p:cNvPr id="293" name="">
              <a:hlinkClick r:id="" action="ppaction://hlinkshowjump?jump=endshow"/>
            </p:cNvPr>
            <p:cNvSpPr/>
            <p:nvPr/>
          </p:nvSpPr>
          <p:spPr>
            <a:xfrm>
              <a:off x="54000" y="6381720"/>
              <a:ext cx="360360" cy="360360"/>
            </a:xfrm>
            <a:custGeom>
              <a:avLst/>
              <a:gdLst>
                <a:gd name="textAreaLeft" fmla="*/ 23040 w 360360"/>
                <a:gd name="textAreaRight" fmla="*/ 337320 w 36036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4" name="" descr="">
              <a:hlinkClick r:id="" action="ppaction://hlinkshowjump?jump=endshow"/>
            </p:cNvPr>
            <p:cNvPicPr/>
            <p:nvPr/>
          </p:nvPicPr>
          <p:blipFill>
            <a:blip r:embed="rId1"/>
            <a:stretch/>
          </p:blipFill>
          <p:spPr>
            <a:xfrm>
              <a:off x="100080" y="6433920"/>
              <a:ext cx="258840" cy="2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54000" y="59770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marL="85680" indent="-8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ebdings"/>
                <a:ea typeface="Webdings"/>
              </a:rPr>
              <a:t>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33480" y="68400"/>
            <a:ext cx="1592280" cy="761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255160" y="125280"/>
            <a:ext cx="772920" cy="7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716040" y="4525920"/>
            <a:ext cx="812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353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Программный модуль позволяет произвести расчет максимально возможного потребления воды на стройплощадке на производственные и хозяйственно-бытовые нужды (без учета пожаротушения) по выбранным схемам (вариантам) временного водоснаб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1822320" y="1574640"/>
            <a:ext cx="6351840" cy="274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0:55:39Z</dcterms:created>
  <dc:creator/>
  <dc:description/>
  <dc:language>en-US</dc:language>
  <cp:lastModifiedBy>-</cp:lastModifiedBy>
  <dcterms:modified xsi:type="dcterms:W3CDTF">2014-10-15T13:18:12Z</dcterms:modified>
  <cp:revision>215</cp:revision>
  <dc:subject/>
  <dc:title>Слайд 1</dc:title>
</cp:coreProperties>
</file>