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983-4CAD-4A02-8024-8CED8E45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4A6-22A0-4544-8C91-D8BCB12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C2C-6515-4DCB-9606-83F8C506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618-2266-44F4-81CB-7F6FBB6D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BD3-600C-4F7D-8603-7C05EDAB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8BAF-BCC1-4052-BC24-CD1208D5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35EA-C58C-49A0-A7D8-7427FBBD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624-5EE5-43FD-A08C-B97CC4F3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ACA5-3AB7-465B-98D0-BCABF74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3616-987A-499B-B9D3-2A438164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6041-7C02-4D8C-A21D-C6450B5F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35B-0473-4A51-8780-93A3104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432B-9358-406F-B887-0C8A4074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EAAD-8EF4-4445-A84A-D868CD7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75E0-54D6-470A-9B01-AE7119BA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3619-39D8-4758-B984-2939AD3F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BF1A-7933-41F9-971B-5C206D19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A7F-9A31-4F1B-9D45-AEE535A3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319-0917-42FE-8933-ADE26C05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B7C-4E7E-40F9-AD71-D80235F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97C-1C09-4B11-801C-6ABDF1C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8EA-9D7C-4460-9A4A-2737F3A8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4A6-0DD8-4E9E-9EEA-72A56BE3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511-BCED-46ED-B4DD-14E86F5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F543-7345-403A-A4CE-68CE401C2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DE44-6869-46FB-BD5F-D7EE060DF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ограждения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ограждений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потребности в материалах для данного ограждения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788080"/>
            <a:ext cx="758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Набор ограждений формируется в таблице и сохраняется в чертеже. Участки ограждений добавляются двумя способами: построением на чертеже или указанием существующих полилиний. Для каждого ограждения можно вставить в чертеж схему устройства и таблицу расхода материал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427120" y="938160"/>
            <a:ext cx="489744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ворот и калиток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788080"/>
            <a:ext cx="758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орота и калитки формируются в отдельный набор, который сохраняется в чертеж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81240" y="795240"/>
            <a:ext cx="50562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ыбор типа огражд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48610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изменения типа ограждений и ворот (калиток), их наименования в наборе и на чертеже и других необходимых параметр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38280" y="1042920"/>
            <a:ext cx="5934240" cy="22287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1530360" y="3675240"/>
            <a:ext cx="593424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го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08200" y="1427040"/>
            <a:ext cx="6053040" cy="36626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43040" y="5254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Изображение ограждений на чертеже может включать в себя участки ограждений в виде условных линий, ворота (калитки) в виде условных обозначений, а также выноски с надписям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3840" y="2160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ограждения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1639800" y="1349280"/>
            <a:ext cx="6118200" cy="2965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43040" y="4479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ограждения предусмотрена возможность построения на чертеже схемы устройства огражд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4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5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1041480" y="1592280"/>
            <a:ext cx="7337520" cy="22496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43040" y="40226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7-03-06T08:12:26Z</dcterms:modified>
  <cp:revision>255</cp:revision>
  <dc:subject/>
  <dc:title>Слайд 1</dc:title>
</cp:coreProperties>
</file>