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79A6-8BEC-4534-A785-39CE9EB1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613-8686-41AC-8BD5-340D162E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3D8-FDC6-42F9-96A8-F8CE0C7B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F42-1F06-4D48-B6BE-323AF926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EBAC-D052-45E8-8EE4-4DF5B400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29CD-8AAD-49CD-BEE4-FC2AA9FE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78A1-8903-4B67-A382-EAD0CD08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B3FD-97BD-450D-BA30-B1551910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A290-7E57-42E1-9B95-C7FE4C07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12B3-37D6-41B3-8355-7223F996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08F8-102B-4F51-94AA-F3512BAF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ADC-8E18-4FF3-B67A-9D570155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4D27-3219-4D10-9661-3D7F7D27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873F-F19A-4340-AEEC-31DFABC6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1BAB-89A2-491A-8882-D81257D8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034B-72F6-4554-B3EA-16E0AAEF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DF88-7143-421D-8EE6-949DCCBE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867-3887-4DC5-9B38-63BA3FB4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198-BE61-466C-8795-C2E882DC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D12-D1FF-4FDE-86D7-EC8251CC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617-DB5D-4478-A362-BC2CAC60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270-9906-4999-8A8B-BA3ECCAB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CEE-5AE5-4F4B-870E-8A0F43AE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477-8A5A-4BA1-B117-2F603464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FCCD-2EF2-4176-A35F-F62F460101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0EC1-0776-462A-B8E3-992D0A4EB3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счет водопонижен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расчета водопонижения котлованов и траншей для выбранной из 12 возможных схем водопониже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контура водопонижающей системы с рассчитанным количеством скважин (иглофильтров) в масштаб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412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50960" y="5173560"/>
            <a:ext cx="7589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чет водопонижений производится по одной из 12 схем водопонижения (в соответствии со СНиП 2.06.14-85). Для проведения расчета водопонижения необходимо указать радиус депрессии, приведенный радиус водопонизительной системы, понижение уровня подземных вод в расчетной точке, коэффициент фильтрации, непониженный напор подземных вод, толщину водоносного слоя и мощность откачки воды, а также некоторые дополнительные параметры (в зависимости от выбранной схемы водопонижения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43120" y="858960"/>
            <a:ext cx="592452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радиуса депресс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79480" y="514368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чет радиуса депрессии производится по одной из семи расчетных схем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805040" y="1031760"/>
            <a:ext cx="592452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Расчет приведенного радиуса водопонизительной систем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40356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иведенный радиус водопонизительной системы рассчитывается исходя из длины линейной системы или размера большей стороны контурной системы. Данный параметр можно ввести вручную или получить из чертежа, указав контур систем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930320" y="1461960"/>
            <a:ext cx="5639040" cy="24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Изображение контура водопонизительной системы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43040" y="58262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троение на чертеже контура водопонижающей системы с рассчитанным количеством скважин (иглофильтров) в масштаб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589120" y="1262160"/>
            <a:ext cx="4456080" cy="44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ов расчета водопониж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1590840" y="1301760"/>
            <a:ext cx="6208560" cy="50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57:50Z</dcterms:modified>
  <cp:revision>256</cp:revision>
  <dc:subject/>
  <dc:title>Слайд 1</dc:title>
</cp:coreProperties>
</file>