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1CA-BC5C-4A93-93FE-A18DA788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C0F-45B5-457F-BFCF-D4F977B6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2288-DBCF-4C77-8659-CD6C1F55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A85-CBD7-4856-8EB5-F977889B1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C80-7273-42AC-BD7B-A5FE9EAA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A9E6-D5FC-46EC-97FB-957FEF87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34E6-6EED-48DE-AEA5-52AA65A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48F0-F1EC-44C8-B11C-CC39F81D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886E-FCF0-42E3-BE6B-3693461E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92BF-85E2-4C66-A0D9-2B4E948A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DFBF-FBE7-4C93-ABAB-F035A7FB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1BE-44C6-4246-BC10-18FD10BC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A51E-31A6-43A5-BBDD-17044966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032D-83B0-400D-8E71-F638C176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F4D0-7EBF-45FE-96D9-B262529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99DB-02C9-493D-A5DF-FAA28B72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2742-A3E5-490C-B481-A65D7C50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AB9-CD11-42AB-9A49-7557864F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1E9-E84A-48C9-81A5-5F4E198E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C7C-E1E6-43E1-B7AE-58D62CE2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125-0F7E-4A10-B1EF-9F32BF16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30E-5995-41DF-A65B-8EEE37C9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9FD-E0D8-4FB8-BEE1-994E7725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0DA-5409-488D-8984-EC78F4D4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B639-8B87-48A8-A1C4-CEB8CD43D5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E016-23EC-4B8A-98AC-03BEB38D13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«Электропрогрев бетон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63840" y="3301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напряжения трансформат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16040" y="58341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определения электрических параметров трансформатора и подводящих проводов необходимо выбрать определенный метод прогрева и требуемые для него исходные данны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944640" y="1185840"/>
            <a:ext cx="7575480" cy="45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ов параметров оборудования, используемого при электродном прогреве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4"/>
          <a:stretch/>
        </p:blipFill>
        <p:spPr>
          <a:xfrm>
            <a:off x="1092240" y="1706400"/>
            <a:ext cx="723888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563840" y="50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Предварительный электроразогрев бетонных смес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1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2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76440" y="584028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предварительном электроразогреве бетонных смесей, необходимо ввести или выбрать из соответствующих справочников исходные данные, провести расчет потребной мощности, параметров электрооборудования и бунк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1155600" y="928800"/>
            <a:ext cx="7010640" cy="48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563840" y="2286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приведенной удельной теплоемкости бетонной смес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1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2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1244520" y="1360440"/>
            <a:ext cx="6953400" cy="44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563840" y="11448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араметров оборудования бункера для предварительного электроразогрева бетонной смес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0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1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525680" y="1838160"/>
            <a:ext cx="66769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563840" y="50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ев бетона греющими изолированными провод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76440" y="5904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прогреве бетона греющими изолированными проводами, необходимо ввести или выбрать из соответствующих справочников исходные данные и провести расчет электрических параметров провод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434960" y="995400"/>
            <a:ext cx="67914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63840" y="2412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араметров объемного прогрева бетона с помощью изолированных греющих провод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59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0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1463760" y="1724040"/>
            <a:ext cx="6648480" cy="45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187280"/>
            <a:ext cx="8121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араметров оборудования, используемого при прогреве бетона методами электродного прогрева, прогрева греющими изолированными проводами, а также оборудования, применяемого при предварительном электроразогреве бетонных смесе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следующие базы данных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удельные электрические сопротивления тяжелых бетонов на портландцементах разных заводов (ориентировочные значения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ориентировочное уменьшение величин удельного электрического сопротивления бетона в зависимости от вида и количества применяемых добавок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наивысшие допустимые температуры бетона при сквозном электропрогреве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графики нарастания прочности бетонов  в зависимости от температуры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коэффициенты теплопередачи различных опалубо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28640" y="41162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выбрать один из методов электропрогрева бетон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электродный прогрев, предварительный электроразогрев бетонных смесей, прогрев греющими изолированными провод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90640" y="1077840"/>
            <a:ext cx="5329440" cy="28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904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дный прогрев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0310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араметров оборудования, используемого при электродном прогреве бетона, необходимо ввести или выбрать из соответствующих справочников исходные данные, провести расчет требуемой электрической мощности и напряжения трансформат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00240" y="824040"/>
            <a:ext cx="689616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удельного сопротивления бетон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542772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ыбора расчетного удельного сопротивления бетона необходимо указать завод-изготовитель цемента, наименование и количество доба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9520" y="1076400"/>
            <a:ext cx="8109000" cy="42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модуля поверхности конструкции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7070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модуля поверхности конструкции необходимо предварительно просуммировать площади и объемы поверх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1520" y="1030320"/>
            <a:ext cx="64818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652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температуры изотермического прогрев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136520" y="1289160"/>
            <a:ext cx="718344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63840" y="1396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продолжительности изотермического прогрева бето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16040" y="62276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должительность изотермического прогрева бетона определяется по графику нарастания прочности бетона для выбранной марки бето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030320" y="1128600"/>
            <a:ext cx="74642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63840" y="1904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коэффициента теплопередачи опалуб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16040" y="5122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ыбора коэффициента теплопередачи опалубки необходимо указать материал опалубки и скорость вет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357200" y="1316160"/>
            <a:ext cx="6873840" cy="367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0T12:20:26Z</dcterms:modified>
  <cp:revision>266</cp:revision>
  <dc:subject/>
  <dc:title>Слайд 1</dc:title>
</cp:coreProperties>
</file>