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96F-25B3-45E0-8B93-48E7A5EA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B8F-010F-465F-9713-0A13912F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54F-ACC3-4E4E-90DD-547A3073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E70-06DB-4F99-9F7C-9539D5DF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8497-76A3-475E-A8DC-0C6B947E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68F4-CC41-466A-9E82-0EC1655F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190E-169F-4553-B395-C08BD157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915A-0A42-4B09-A21E-FDC8E86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EF0D-C76F-4B1E-A669-FBFCD2D0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B110-8CAF-4E97-8EA5-C98F485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9411-C8C0-4CB2-B11A-E49E3C8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1E0-5CAA-4FED-83DB-C3EE64BC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AE57-D239-4D9F-BEF0-235CC56D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30C8-43C9-44F6-B591-064139B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F678-A600-485A-B500-702E9F1E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D2AD-A1D2-4763-99A4-82BCBDB5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17CF-5494-4EF8-9683-8E706B76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27A-C90D-43FA-ADF2-D3D5DC77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33A-AC6C-455E-ADC3-4947F606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CD6-AE76-4176-9337-267055B3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E1B-C023-42EE-8D4E-0FBB017B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3BB-EA65-4573-B0AB-20CF4AF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135-7D37-494F-960E-E3A300D8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1E2-FE32-4614-80E7-C3AFC8ED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F203-89A6-4A9B-836B-B9CB00717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A590-4FA5-4690-983C-D3EFDC8D26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о временных здания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строительства в кадрах,  во временных зданиях и сооружениях, жилье и социально-бытовом обслуживан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 производится исходя из наибольшего количества работающих на стройплощадке, определяемого на основании годовой стоимости СМР и среднегодовой выработки на одного работающего или на основании трудоемкости СМР. В результате работы программного модуля формируется перечень необходимых инвентарных зданий с обоснованием расчет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обоснования потребности строительства в кадрах,  во временных зданиях и сооружениях, жилье и социально-бытовом обслуживани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896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потребности необходимо ввести участок строительства, задав его наименование, тип расчета потребности в кадрах, назначение объекта строительства и количество смен в течение дн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23960" y="1028880"/>
            <a:ext cx="76960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строитель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19732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вкладке «Потребность в кадрах» рассчитывается потребность строительства в кадрах в зависимости выбранного типа расчетов. На вкладке «Потребность во временных зданиях» формируется список необходимых потребностей на основании справочника видов назначений временных зданий и сооружений. На вкладке «Потребность в жилье и социально-бытовом обслуживании» формируется список необходимых потребностей на основании справочника назначений зданий и сооружений жилого и социально-бытового направ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441440" y="746280"/>
            <a:ext cx="64818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временных зданий и сооружений для участка строитель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499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осуществляется исходя из требуемых площадей на участке по определенным назначениям в ручном или автоматическом режиме. Выбор зданий и сооружений производится из соответствующего справочн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33440" y="1093680"/>
            <a:ext cx="692784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временных зданий и сооружений из справоч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4987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задать дополнительные условия отображения данных в справочнике с учетом признака «Избранное» и наличия в зданиях площадей с необходимым назначение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033560" y="1600200"/>
            <a:ext cx="745812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потребности во временных здания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2467080" y="1247760"/>
            <a:ext cx="47433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07:47:16Z</dcterms:modified>
  <cp:revision>276</cp:revision>
  <dc:subject/>
  <dc:title>Слайд 1</dc:title>
</cp:coreProperties>
</file>